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C3D2-68B8-4119-A809-CEA831CD9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5DCB-E820-43CD-9106-B7954BDC2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FA8-3FFD-418C-AB6C-F11C391E0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30C-EFA5-4A73-87F8-D0469BABE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6AFF-0F68-4275-9748-69D948EB4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7650-AA68-4550-915D-BA52F74DD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2B4A-9D97-4331-A9DA-34C5CC70B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78F6-4009-44AD-A818-F4ACFF67B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E7F-257A-427C-A9EA-A631A038F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1B33-269C-4FBF-A8F8-8090F08A7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DAE0-5A3A-48BF-95F0-5519094293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1135-7FB7-4E1C-975C-A58494CA0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B26B-38C6-40FF-8617-88D150E72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3D56-2BEB-4731-869B-427FBA665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5EB0-BA62-4678-9FC6-E629FCF06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12AB-3D8A-41E7-8AFE-A2752D56D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C8B7-ACBE-436E-91BE-2EC664490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26CF-62AF-4C28-9B06-B2086689D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C47B-3494-4ED5-9989-247730B58B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01E6-0B0F-4536-9DFC-4EA867052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2986-E684-4CC7-A7E7-449598CE8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E81A-A546-451D-B02C-FF468E7864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8713-F3E6-47CE-85E3-A4EB56ECE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DF6-CA42-4C48-84CD-010DD36CFA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633D-7387-460F-BFD3-20934921E7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B240-8C69-4330-80A1-3B2D70CAA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0A3E-BB5A-442E-8E4C-4A2CE33D0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9131-D6A2-4EB0-94A9-7E0DB1CD4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6008-307B-43B7-8DED-D64DBE2FD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19AC-0A42-458D-97C7-8DE04FCE0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8D51-1FBD-4903-AD01-64F53F33A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49CC-40B7-4B39-BE82-D55FB3800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DA71-BC84-4021-AC67-B0C09365C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AC9A-A717-4AF8-B1FB-B9DE7ACA6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0310-B524-465C-B579-6331944E4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DF2-06CD-4CCD-ADD6-3E481FD1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128-6164-41E0-8C7E-D7AEF3E5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32F-BB8B-4599-9EE5-A93AAD04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30D-2384-4EBA-8EE3-BD2AF766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8B73-A51B-4D05-86BD-7EF9D705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485F-F082-4CB4-BC83-8420D25B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BFF2-FA32-4817-89E0-F9CB484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3788-C49D-4E9C-9C56-86CA1ED8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9BC7-5A72-4E67-8762-62404363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0AD0-2407-453F-97E5-88FB9812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7549-9088-4B96-BEF8-4FB8C0E5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960-4F13-4887-91B1-D51D0BE6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47EA-8F73-4D5F-B09E-80641124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4093-9E11-4126-8605-6CDAA40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0D0D-0A4B-48DF-B854-7CCEA3D2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66D5-1EC0-4BA2-9609-49492846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30C1-B889-4FE0-8D10-CAC2F622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F4F51-F91B-47AB-9EC9-465DEE0A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89D4A-B85C-4562-A263-85363D10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63445-791D-4EBD-B962-240FF5FD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F5AF2-C343-4D89-BBA9-CF4F718F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89E76-8A47-4BE6-A03D-B1F42C81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EBA-3460-439D-AB2D-201DCA53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7A526-2FAA-4AF2-9D7E-DAB53B0F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D2986-6174-4205-8EEE-C975E4B2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8E1B7-F7E3-48F6-B948-62D5411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1B571-8DE7-4061-AF0F-635EA01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99D43-E522-46A8-AD0B-2C116924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D1DE3-89A5-4AB4-887D-84B89189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5BB25-FEFB-42DD-9778-69724E91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AF6AB-D00C-4FE3-90FE-5B923891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C46A6-DBCA-4451-B97D-45B3CE4C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78468-897D-4FEB-95AC-ACA6C4B2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B56-8ED2-46B6-8A06-31E0A3BC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3D1EF-93F7-40CE-8BC9-7C0C6F07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C1FE4-BB18-425A-9CD2-16BCE1A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12C35-E3AD-45A7-83C8-D9D520D7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21DB0-B413-4CFD-943C-59A6B16A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27C7B-EF3E-488F-8337-D93F780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23946-DBEE-4005-B6F2-8CA1167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0334F-5383-4BE2-B40D-8B878538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5E7DB-C63E-447D-92D1-7F32BE56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E19AC-605F-411F-950D-9B9F37EC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529-B1FD-4CFE-9CFB-47C4A2EA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577-68F4-447C-A69E-F72537CE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5C2-CD0F-432A-8E97-04024CCF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759-2DF4-4723-918E-B1C1E2E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303-0EA1-4AD9-A7C8-615DAE63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F22B-F8F4-4402-A0D8-47DDC6216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Footer"/>
          <p:cNvPicPr/>
          <p:nvPr/>
        </p:nvPicPr>
        <p:blipFill>
          <a:blip r:embed="rId2"/>
          <a:stretch/>
        </p:blipFill>
        <p:spPr>
          <a:xfrm>
            <a:off x="0" y="6324480"/>
            <a:ext cx="9145440" cy="533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SangerReversedLargeRGB"/>
          <p:cNvPicPr/>
          <p:nvPr/>
        </p:nvPicPr>
        <p:blipFill>
          <a:blip r:embed="rId3"/>
          <a:stretch/>
        </p:blipFill>
        <p:spPr>
          <a:xfrm>
            <a:off x="152280" y="6375240"/>
            <a:ext cx="1371600" cy="3985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ebang-400dpi"/>
          <p:cNvPicPr/>
          <p:nvPr/>
        </p:nvPicPr>
        <p:blipFill>
          <a:blip r:embed="rId4"/>
          <a:stretch/>
        </p:blipFill>
        <p:spPr>
          <a:xfrm>
            <a:off x="4343400" y="6353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EBI"/>
          <p:cNvPicPr/>
          <p:nvPr/>
        </p:nvPicPr>
        <p:blipFill>
          <a:blip r:embed="rId5"/>
          <a:stretch/>
        </p:blipFill>
        <p:spPr>
          <a:xfrm>
            <a:off x="7543800" y="6381720"/>
            <a:ext cx="1295280" cy="40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Footer"/>
          <p:cNvPicPr/>
          <p:nvPr/>
        </p:nvPicPr>
        <p:blipFill>
          <a:blip r:embed="rId2"/>
          <a:stretch/>
        </p:blipFill>
        <p:spPr>
          <a:xfrm>
            <a:off x="0" y="6324480"/>
            <a:ext cx="914544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SangerReversedLargeRGB"/>
          <p:cNvPicPr/>
          <p:nvPr/>
        </p:nvPicPr>
        <p:blipFill>
          <a:blip r:embed="rId3"/>
          <a:stretch/>
        </p:blipFill>
        <p:spPr>
          <a:xfrm>
            <a:off x="152280" y="6375240"/>
            <a:ext cx="1371600" cy="398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ebang-400dpi"/>
          <p:cNvPicPr/>
          <p:nvPr/>
        </p:nvPicPr>
        <p:blipFill>
          <a:blip r:embed="rId4"/>
          <a:stretch/>
        </p:blipFill>
        <p:spPr>
          <a:xfrm>
            <a:off x="4343400" y="6353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EBI"/>
          <p:cNvPicPr/>
          <p:nvPr/>
        </p:nvPicPr>
        <p:blipFill>
          <a:blip r:embed="rId5"/>
          <a:stretch/>
        </p:blipFill>
        <p:spPr>
          <a:xfrm>
            <a:off x="7543800" y="6381720"/>
            <a:ext cx="1295280" cy="40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501040" y="5928840"/>
            <a:ext cx="6429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67CC-EE12-4FA6-A2EF-A02BEB856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Footer"/>
          <p:cNvPicPr/>
          <p:nvPr/>
        </p:nvPicPr>
        <p:blipFill>
          <a:blip r:embed="rId2"/>
          <a:stretch/>
        </p:blipFill>
        <p:spPr>
          <a:xfrm>
            <a:off x="0" y="6324480"/>
            <a:ext cx="914544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SangerReversedLargeRGB"/>
          <p:cNvPicPr/>
          <p:nvPr/>
        </p:nvPicPr>
        <p:blipFill>
          <a:blip r:embed="rId3"/>
          <a:stretch/>
        </p:blipFill>
        <p:spPr>
          <a:xfrm>
            <a:off x="152280" y="6375240"/>
            <a:ext cx="1371600" cy="39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ebang-400dpi"/>
          <p:cNvPicPr/>
          <p:nvPr/>
        </p:nvPicPr>
        <p:blipFill>
          <a:blip r:embed="rId4"/>
          <a:stretch/>
        </p:blipFill>
        <p:spPr>
          <a:xfrm>
            <a:off x="4343400" y="6353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EBI"/>
          <p:cNvPicPr/>
          <p:nvPr/>
        </p:nvPicPr>
        <p:blipFill>
          <a:blip r:embed="rId5"/>
          <a:stretch/>
        </p:blipFill>
        <p:spPr>
          <a:xfrm>
            <a:off x="7543800" y="6381720"/>
            <a:ext cx="129528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0" y="1417680"/>
            <a:ext cx="1440000" cy="410940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ndard 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mbly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w comp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ted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ity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NA and EST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T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bui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genebuild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529120" y="5928840"/>
            <a:ext cx="6145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BDBA-B9A7-4627-9FA7-BEC152585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2" descr="Footer"/>
          <p:cNvPicPr/>
          <p:nvPr/>
        </p:nvPicPr>
        <p:blipFill>
          <a:blip r:embed="rId2"/>
          <a:stretch/>
        </p:blipFill>
        <p:spPr>
          <a:xfrm>
            <a:off x="0" y="6324480"/>
            <a:ext cx="914544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SangerReversedLargeRGB"/>
          <p:cNvPicPr/>
          <p:nvPr/>
        </p:nvPicPr>
        <p:blipFill>
          <a:blip r:embed="rId3"/>
          <a:stretch/>
        </p:blipFill>
        <p:spPr>
          <a:xfrm>
            <a:off x="152280" y="6375240"/>
            <a:ext cx="1371600" cy="39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ebang-400dpi"/>
          <p:cNvPicPr/>
          <p:nvPr/>
        </p:nvPicPr>
        <p:blipFill>
          <a:blip r:embed="rId4"/>
          <a:stretch/>
        </p:blipFill>
        <p:spPr>
          <a:xfrm>
            <a:off x="4343400" y="6353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EBI"/>
          <p:cNvPicPr/>
          <p:nvPr/>
        </p:nvPicPr>
        <p:blipFill>
          <a:blip r:embed="rId5"/>
          <a:stretch/>
        </p:blipFill>
        <p:spPr>
          <a:xfrm>
            <a:off x="7543800" y="6381720"/>
            <a:ext cx="1295280" cy="406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0"/>
          <p:cNvSpPr/>
          <p:nvPr/>
        </p:nvSpPr>
        <p:spPr>
          <a:xfrm>
            <a:off x="0" y="1417680"/>
            <a:ext cx="1440000" cy="429192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peline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nables and RunnableD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s an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put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s on the f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le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8529120" y="5928840"/>
            <a:ext cx="6145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B701-1405-45EE-9262-1484C9BEC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GeneBuildi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nsembl Developers’ Workshop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ronwen Aken and Jan Vog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6516720" y="0"/>
            <a:ext cx="2627280" cy="487440"/>
            <a:chOff x="6516720" y="0"/>
            <a:chExt cx="2627280" cy="487440"/>
          </a:xfrm>
        </p:grpSpPr>
        <p:pic>
          <p:nvPicPr>
            <p:cNvPr id="192" name="Picture 6" descr=""/>
            <p:cNvPicPr/>
            <p:nvPr/>
          </p:nvPicPr>
          <p:blipFill>
            <a:blip r:embed="rId1"/>
            <a:stretch/>
          </p:blipFill>
          <p:spPr>
            <a:xfrm>
              <a:off x="6516720" y="0"/>
              <a:ext cx="143820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2" descr="embl-ebi_poster_logo"/>
            <p:cNvPicPr/>
            <p:nvPr/>
          </p:nvPicPr>
          <p:blipFill>
            <a:blip r:embed="rId2"/>
            <a:stretch/>
          </p:blipFill>
          <p:spPr>
            <a:xfrm>
              <a:off x="8001000" y="0"/>
              <a:ext cx="1143000" cy="48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= proteins from related speci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ed into ‘mammal’, ‘vertebrate’, ‘non_vertebrate’, etc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Fills in gaps where species-specific information is not availabl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Rough gene position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Coding transcript structure predic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Similarity Ste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60D8-F16D-4BF4-B9FF-FDAFEEF62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321480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Similarity Ste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EF12-4C87-45EE-A3B7-348BD29FB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321480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60560" y="1771560"/>
            <a:ext cx="4932360" cy="50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1773360"/>
            <a:ext cx="1295640" cy="398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020000" y="1916280"/>
            <a:ext cx="216000" cy="215640"/>
            <a:chOff x="7020000" y="1916280"/>
            <a:chExt cx="216000" cy="215640"/>
          </a:xfrm>
        </p:grpSpPr>
        <p:sp>
          <p:nvSpPr>
            <p:cNvPr id="283" name=""/>
            <p:cNvSpPr/>
            <p:nvPr/>
          </p:nvSpPr>
          <p:spPr>
            <a:xfrm>
              <a:off x="7128000" y="191628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020000" y="202392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635280" y="2565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51280" y="256536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5280" y="4368960"/>
            <a:ext cx="0" cy="42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1280" y="436896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Gene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89640" y="1625760"/>
            <a:ext cx="1225440" cy="142560"/>
            <a:chOff x="5489640" y="1625760"/>
            <a:chExt cx="1225440" cy="142560"/>
          </a:xfrm>
        </p:grpSpPr>
        <p:sp>
          <p:nvSpPr>
            <p:cNvPr id="290" name=""/>
            <p:cNvSpPr/>
            <p:nvPr/>
          </p:nvSpPr>
          <p:spPr>
            <a:xfrm>
              <a:off x="5489640" y="1625760"/>
              <a:ext cx="360000" cy="142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4360" y="1625760"/>
              <a:ext cx="358200" cy="142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99080" y="1625760"/>
              <a:ext cx="215640" cy="142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89640" y="1697040"/>
              <a:ext cx="122544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960560" y="1625760"/>
            <a:ext cx="1584360" cy="145800"/>
            <a:chOff x="1960560" y="1625760"/>
            <a:chExt cx="1584360" cy="145800"/>
          </a:xfrm>
        </p:grpSpPr>
        <p:sp>
          <p:nvSpPr>
            <p:cNvPr id="295" name=""/>
            <p:cNvSpPr/>
            <p:nvPr/>
          </p:nvSpPr>
          <p:spPr>
            <a:xfrm>
              <a:off x="2465280" y="1625760"/>
              <a:ext cx="358920" cy="142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70000" y="1625760"/>
              <a:ext cx="216000" cy="142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960560" y="1625760"/>
              <a:ext cx="1584360" cy="145800"/>
              <a:chOff x="1960560" y="1625760"/>
              <a:chExt cx="1584360" cy="1458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60560" y="1625760"/>
                <a:ext cx="36036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174760" y="1629000"/>
                <a:ext cx="1370160" cy="142560"/>
                <a:chOff x="2174760" y="1629000"/>
                <a:chExt cx="1370160" cy="142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328920" y="1629000"/>
                  <a:ext cx="216000" cy="142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174760" y="1700280"/>
                  <a:ext cx="1225800" cy="0"/>
                </a:xfrm>
                <a:prstGeom prst="line">
                  <a:avLst/>
                </a:prstGeom>
                <a:ln w="381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1960560" y="3213000"/>
            <a:ext cx="4932360" cy="911160"/>
            <a:chOff x="1960560" y="3213000"/>
            <a:chExt cx="4932360" cy="911160"/>
          </a:xfrm>
        </p:grpSpPr>
        <p:sp>
          <p:nvSpPr>
            <p:cNvPr id="303" name=""/>
            <p:cNvSpPr/>
            <p:nvPr/>
          </p:nvSpPr>
          <p:spPr>
            <a:xfrm>
              <a:off x="1960560" y="3619440"/>
              <a:ext cx="4932360" cy="504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508720" y="3498840"/>
              <a:ext cx="1225440" cy="142920"/>
              <a:chOff x="5508720" y="3498840"/>
              <a:chExt cx="1225440" cy="142920"/>
            </a:xfrm>
          </p:grpSpPr>
          <p:sp>
            <p:nvSpPr>
              <p:cNvPr id="305" name=""/>
              <p:cNvSpPr/>
              <p:nvPr/>
            </p:nvSpPr>
            <p:spPr>
              <a:xfrm>
                <a:off x="5508720" y="3498840"/>
                <a:ext cx="3600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13440" y="3498840"/>
                <a:ext cx="3582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18160" y="3498840"/>
                <a:ext cx="21564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08720" y="3570480"/>
                <a:ext cx="122544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979640" y="3498840"/>
              <a:ext cx="1584360" cy="145800"/>
              <a:chOff x="1979640" y="3498840"/>
              <a:chExt cx="1584360" cy="145800"/>
            </a:xfrm>
          </p:grpSpPr>
          <p:sp>
            <p:nvSpPr>
              <p:cNvPr id="310" name=""/>
              <p:cNvSpPr/>
              <p:nvPr/>
            </p:nvSpPr>
            <p:spPr>
              <a:xfrm>
                <a:off x="2484360" y="3498840"/>
                <a:ext cx="35892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89080" y="3498840"/>
                <a:ext cx="2160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979640" y="3498840"/>
                <a:ext cx="1584360" cy="145800"/>
                <a:chOff x="1979640" y="3498840"/>
                <a:chExt cx="1584360" cy="145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979640" y="3498840"/>
                  <a:ext cx="360360" cy="14292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2193840" y="3502080"/>
                  <a:ext cx="1370160" cy="142560"/>
                  <a:chOff x="2193840" y="3502080"/>
                  <a:chExt cx="1370160" cy="142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348000" y="3502080"/>
                    <a:ext cx="216000" cy="142560"/>
                  </a:xfrm>
                  <a:prstGeom prst="rect">
                    <a:avLst/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93840" y="3573360"/>
                    <a:ext cx="1225800" cy="0"/>
                  </a:xfrm>
                  <a:prstGeom prst="line">
                    <a:avLst/>
                  </a:prstGeom>
                  <a:ln w="381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17" name=""/>
            <p:cNvSpPr/>
            <p:nvPr/>
          </p:nvSpPr>
          <p:spPr>
            <a:xfrm>
              <a:off x="3780000" y="3214800"/>
              <a:ext cx="36036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32360" y="3213000"/>
              <a:ext cx="503280" cy="3970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72000" y="3214800"/>
              <a:ext cx="28728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48000" y="3214800"/>
              <a:ext cx="19368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960560" y="5157720"/>
            <a:ext cx="4932360" cy="914400"/>
            <a:chOff x="1960560" y="5157720"/>
            <a:chExt cx="4932360" cy="914400"/>
          </a:xfrm>
        </p:grpSpPr>
        <p:sp>
          <p:nvSpPr>
            <p:cNvPr id="322" name=""/>
            <p:cNvSpPr/>
            <p:nvPr/>
          </p:nvSpPr>
          <p:spPr>
            <a:xfrm>
              <a:off x="1960560" y="5567400"/>
              <a:ext cx="4932360" cy="504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08720" y="5443560"/>
              <a:ext cx="1225440" cy="142920"/>
              <a:chOff x="5508720" y="5443560"/>
              <a:chExt cx="1225440" cy="142920"/>
            </a:xfrm>
          </p:grpSpPr>
          <p:sp>
            <p:nvSpPr>
              <p:cNvPr id="324" name=""/>
              <p:cNvSpPr/>
              <p:nvPr/>
            </p:nvSpPr>
            <p:spPr>
              <a:xfrm>
                <a:off x="5508720" y="5443560"/>
                <a:ext cx="3600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3440" y="5443560"/>
                <a:ext cx="3582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18160" y="5443560"/>
                <a:ext cx="21564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508720" y="5515200"/>
                <a:ext cx="122544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1979640" y="5443560"/>
              <a:ext cx="1584360" cy="145800"/>
              <a:chOff x="1979640" y="5443560"/>
              <a:chExt cx="1584360" cy="145800"/>
            </a:xfrm>
          </p:grpSpPr>
          <p:sp>
            <p:nvSpPr>
              <p:cNvPr id="329" name=""/>
              <p:cNvSpPr/>
              <p:nvPr/>
            </p:nvSpPr>
            <p:spPr>
              <a:xfrm>
                <a:off x="2484360" y="5443560"/>
                <a:ext cx="35892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89080" y="5443560"/>
                <a:ext cx="2160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79640" y="5443560"/>
                <a:ext cx="1584360" cy="145800"/>
                <a:chOff x="1979640" y="5443560"/>
                <a:chExt cx="1584360" cy="1458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79640" y="5443560"/>
                  <a:ext cx="360360" cy="14292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2193840" y="5446800"/>
                  <a:ext cx="1370160" cy="142560"/>
                  <a:chOff x="2193840" y="5446800"/>
                  <a:chExt cx="1370160" cy="14256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3348000" y="5446800"/>
                    <a:ext cx="216000" cy="142560"/>
                  </a:xfrm>
                  <a:prstGeom prst="rect">
                    <a:avLst/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93840" y="5518080"/>
                    <a:ext cx="1225800" cy="0"/>
                  </a:xfrm>
                  <a:prstGeom prst="line">
                    <a:avLst/>
                  </a:prstGeom>
                  <a:ln w="381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6" name=""/>
            <p:cNvSpPr/>
            <p:nvPr/>
          </p:nvSpPr>
          <p:spPr>
            <a:xfrm>
              <a:off x="3780000" y="5159520"/>
              <a:ext cx="36036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32360" y="5157720"/>
              <a:ext cx="503280" cy="3970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72000" y="5159520"/>
              <a:ext cx="28728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8000" y="5159520"/>
              <a:ext cx="19368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51280" y="5373720"/>
              <a:ext cx="1297080" cy="0"/>
            </a:xfrm>
            <a:prstGeom prst="line">
              <a:avLst/>
            </a:prstGeom>
            <a:ln w="57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= species-specific cDNA and EST sequenc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Sequences aligned to genome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onera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ranscript structures predicted for ES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criptCoalescer collapses down EST alignmen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cDNA and EST alignmen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D897-9848-4C2B-B475-4679D2B3D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3643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= Coding transcript models + cDNA alignment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UTR is added where possibl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RBuild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NA alignments are compared against transcript structures from Targetted and Similarity step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mproving UTR structur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d to look for Methionine &amp; Stop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tag dat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UTR additi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CFFB-54F0-42ED-8E9B-2234EB033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407196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UTR additi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6EB3-9AEC-4FB7-AB7E-360F06DE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407196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60560" y="5348160"/>
            <a:ext cx="4932360" cy="50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700360" y="4941720"/>
            <a:ext cx="3959280" cy="397080"/>
            <a:chOff x="2700360" y="4941720"/>
            <a:chExt cx="3959280" cy="397080"/>
          </a:xfrm>
        </p:grpSpPr>
        <p:sp>
          <p:nvSpPr>
            <p:cNvPr id="357" name=""/>
            <p:cNvSpPr/>
            <p:nvPr/>
          </p:nvSpPr>
          <p:spPr>
            <a:xfrm>
              <a:off x="2700360" y="4941720"/>
              <a:ext cx="42372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08720" y="4941720"/>
              <a:ext cx="48420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32280" y="4941720"/>
              <a:ext cx="83664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48000" y="5081760"/>
              <a:ext cx="59544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8000" y="508176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45080" y="4941720"/>
              <a:ext cx="21456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24360" y="508176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968560" y="4941720"/>
              <a:ext cx="3024360" cy="396720"/>
              <a:chOff x="2968560" y="4941720"/>
              <a:chExt cx="3024360" cy="396720"/>
            </a:xfrm>
          </p:grpSpPr>
          <p:sp>
            <p:nvSpPr>
              <p:cNvPr id="365" name=""/>
              <p:cNvSpPr/>
              <p:nvPr/>
            </p:nvSpPr>
            <p:spPr>
              <a:xfrm>
                <a:off x="2968560" y="4941720"/>
                <a:ext cx="36036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89640" y="4941720"/>
                <a:ext cx="50328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13200" y="4941720"/>
                <a:ext cx="86364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28920" y="5081400"/>
                <a:ext cx="59544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8920" y="5081400"/>
                <a:ext cx="72072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979640" y="3068640"/>
            <a:ext cx="4932360" cy="50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987640" y="2662200"/>
            <a:ext cx="3024360" cy="396720"/>
            <a:chOff x="2987640" y="2662200"/>
            <a:chExt cx="3024360" cy="396720"/>
          </a:xfrm>
        </p:grpSpPr>
        <p:sp>
          <p:nvSpPr>
            <p:cNvPr id="372" name=""/>
            <p:cNvSpPr/>
            <p:nvPr/>
          </p:nvSpPr>
          <p:spPr>
            <a:xfrm>
              <a:off x="2987640" y="2662200"/>
              <a:ext cx="36036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08720" y="2662200"/>
              <a:ext cx="50328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2280" y="2662200"/>
              <a:ext cx="86364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48000" y="2801880"/>
              <a:ext cx="595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88000" y="2801880"/>
              <a:ext cx="72072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284720" y="386388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00720" y="3863880"/>
            <a:ext cx="18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UTR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700360" y="1773360"/>
            <a:ext cx="3959280" cy="396720"/>
            <a:chOff x="2700360" y="1773360"/>
            <a:chExt cx="3959280" cy="396720"/>
          </a:xfrm>
        </p:grpSpPr>
        <p:sp>
          <p:nvSpPr>
            <p:cNvPr id="380" name=""/>
            <p:cNvSpPr/>
            <p:nvPr/>
          </p:nvSpPr>
          <p:spPr>
            <a:xfrm>
              <a:off x="2700360" y="1773360"/>
              <a:ext cx="64764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8720" y="1773360"/>
              <a:ext cx="50328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32280" y="1773360"/>
              <a:ext cx="863640" cy="3373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D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48000" y="1913040"/>
              <a:ext cx="59544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88000" y="191304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45080" y="1773360"/>
              <a:ext cx="21456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24360" y="191304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11640" y="2276640"/>
            <a:ext cx="216000" cy="215640"/>
            <a:chOff x="4211640" y="2276640"/>
            <a:chExt cx="216000" cy="215640"/>
          </a:xfrm>
        </p:grpSpPr>
        <p:sp>
          <p:nvSpPr>
            <p:cNvPr id="388" name=""/>
            <p:cNvSpPr/>
            <p:nvPr/>
          </p:nvSpPr>
          <p:spPr>
            <a:xfrm>
              <a:off x="4319640" y="22766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211640" y="23842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= Transcript models with UT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ranscript models (with UTR) are collapsed down to produce gene models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Build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We now have multiple Transcripts per Gen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GeneBuild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C495-DF50-4C63-9749-00E0B056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44290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GeneBuild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F51C-9C6E-4302-9758-41036AA4E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44290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60560" y="2995560"/>
            <a:ext cx="4932360" cy="50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700360" y="2589120"/>
            <a:ext cx="3959280" cy="397080"/>
            <a:chOff x="2700360" y="2589120"/>
            <a:chExt cx="3959280" cy="397080"/>
          </a:xfrm>
        </p:grpSpPr>
        <p:sp>
          <p:nvSpPr>
            <p:cNvPr id="401" name=""/>
            <p:cNvSpPr/>
            <p:nvPr/>
          </p:nvSpPr>
          <p:spPr>
            <a:xfrm>
              <a:off x="2700360" y="2589120"/>
              <a:ext cx="42372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08720" y="2589120"/>
              <a:ext cx="48420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32280" y="2589120"/>
              <a:ext cx="83664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48000" y="2729160"/>
              <a:ext cx="59544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88000" y="272916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45080" y="2589120"/>
              <a:ext cx="21456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24360" y="272916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2968560" y="2589120"/>
              <a:ext cx="3024360" cy="396720"/>
              <a:chOff x="2968560" y="2589120"/>
              <a:chExt cx="3024360" cy="396720"/>
            </a:xfrm>
          </p:grpSpPr>
          <p:sp>
            <p:nvSpPr>
              <p:cNvPr id="409" name=""/>
              <p:cNvSpPr/>
              <p:nvPr/>
            </p:nvSpPr>
            <p:spPr>
              <a:xfrm>
                <a:off x="2968560" y="2589120"/>
                <a:ext cx="36036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489640" y="2589120"/>
                <a:ext cx="50328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13200" y="2589120"/>
                <a:ext cx="86364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328920" y="2728800"/>
                <a:ext cx="59544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68920" y="2728800"/>
                <a:ext cx="72072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2700360" y="2060640"/>
            <a:ext cx="423720" cy="396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32280" y="2060640"/>
            <a:ext cx="836640" cy="396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48000" y="2200320"/>
            <a:ext cx="595440" cy="842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68560" y="2060640"/>
            <a:ext cx="360360" cy="39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13200" y="2060640"/>
            <a:ext cx="863640" cy="39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28920" y="2200320"/>
            <a:ext cx="595440" cy="8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700360" y="1555920"/>
            <a:ext cx="3959280" cy="396720"/>
            <a:chOff x="2700360" y="1555920"/>
            <a:chExt cx="3959280" cy="396720"/>
          </a:xfrm>
        </p:grpSpPr>
        <p:sp>
          <p:nvSpPr>
            <p:cNvPr id="421" name=""/>
            <p:cNvSpPr/>
            <p:nvPr/>
          </p:nvSpPr>
          <p:spPr>
            <a:xfrm>
              <a:off x="2700360" y="1555920"/>
              <a:ext cx="42372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08720" y="1555920"/>
              <a:ext cx="48420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48000" y="1695600"/>
              <a:ext cx="59544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88000" y="1695600"/>
              <a:ext cx="72072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45080" y="1555920"/>
              <a:ext cx="21456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24360" y="1695600"/>
              <a:ext cx="72072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68560" y="1555920"/>
              <a:ext cx="36036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9640" y="1555920"/>
              <a:ext cx="50328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13200" y="1555920"/>
              <a:ext cx="21600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28920" y="1695600"/>
              <a:ext cx="595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13200" y="1695600"/>
              <a:ext cx="1576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67160" y="1555920"/>
              <a:ext cx="49212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979640" y="5445000"/>
            <a:ext cx="4932360" cy="50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719440" y="5038560"/>
            <a:ext cx="3959280" cy="397080"/>
            <a:chOff x="2719440" y="5038560"/>
            <a:chExt cx="3959280" cy="397080"/>
          </a:xfrm>
        </p:grpSpPr>
        <p:sp>
          <p:nvSpPr>
            <p:cNvPr id="435" name=""/>
            <p:cNvSpPr/>
            <p:nvPr/>
          </p:nvSpPr>
          <p:spPr>
            <a:xfrm>
              <a:off x="2719440" y="5038560"/>
              <a:ext cx="42372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27800" y="5038560"/>
              <a:ext cx="48420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51360" y="5038560"/>
              <a:ext cx="83664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67080" y="5178600"/>
              <a:ext cx="59544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7080" y="517860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64160" y="5038560"/>
              <a:ext cx="21456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43440" y="517860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987640" y="5038560"/>
              <a:ext cx="3024360" cy="396720"/>
              <a:chOff x="2987640" y="5038560"/>
              <a:chExt cx="3024360" cy="396720"/>
            </a:xfrm>
          </p:grpSpPr>
          <p:sp>
            <p:nvSpPr>
              <p:cNvPr id="443" name=""/>
              <p:cNvSpPr/>
              <p:nvPr/>
            </p:nvSpPr>
            <p:spPr>
              <a:xfrm>
                <a:off x="2987640" y="5038560"/>
                <a:ext cx="36036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08720" y="5038560"/>
                <a:ext cx="50328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32280" y="5038560"/>
                <a:ext cx="86364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348000" y="5178240"/>
                <a:ext cx="59544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88000" y="5178240"/>
                <a:ext cx="72072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2719440" y="4471920"/>
            <a:ext cx="3959280" cy="396720"/>
            <a:chOff x="2719440" y="4471920"/>
            <a:chExt cx="3959280" cy="396720"/>
          </a:xfrm>
        </p:grpSpPr>
        <p:sp>
          <p:nvSpPr>
            <p:cNvPr id="449" name=""/>
            <p:cNvSpPr/>
            <p:nvPr/>
          </p:nvSpPr>
          <p:spPr>
            <a:xfrm>
              <a:off x="2719440" y="4471920"/>
              <a:ext cx="42372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7800" y="4471920"/>
              <a:ext cx="48420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67080" y="4611600"/>
              <a:ext cx="59544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07080" y="4611600"/>
              <a:ext cx="72072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4160" y="4471920"/>
              <a:ext cx="21456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43440" y="4611600"/>
              <a:ext cx="72072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7640" y="4471920"/>
              <a:ext cx="36036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8720" y="4471920"/>
              <a:ext cx="50328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32280" y="4471920"/>
              <a:ext cx="21600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48000" y="4611600"/>
              <a:ext cx="595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2280" y="4611600"/>
              <a:ext cx="1576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86240" y="4471920"/>
              <a:ext cx="49212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284720" y="3789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00720" y="3789360"/>
            <a:ext cx="18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Gene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42360" y="1844640"/>
            <a:ext cx="142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ve redundant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4776840" y="2284560"/>
            <a:ext cx="27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seudogen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rotein annota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prot: Prints, PrositePatterns, PrositeProfiles, Pfam, Tigerfam, Smart, Superfamily, Pirsf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: Seq, SignalP, Ncoils, Tmhm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Assign xrefs: Cross-reference models to external databas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CDS, RefSeq, Unipro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ncRNA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Post-genebuild processi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6F24-22CA-4AF5-BB14-31B1FC854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492912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pipelin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8501040" y="5929200"/>
            <a:ext cx="64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8692-56AA-46A0-9D45-7DB644DD2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Arial"/>
              </a:rPr>
              <a:t>Topics covered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e schem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 contro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nables and RunnableDB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gs and rul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ID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s on the far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manag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pipelin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E0CF-A803-4BCA-9A0B-FE84322B2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nsembl genebuil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nsembl pipelin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501040" y="5929200"/>
            <a:ext cx="64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5823-049C-42BA-93EC-3BF269413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nsembl core schem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SQL (MyISAM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tabl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PI to access dat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form method of access to the dat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ated Perl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s-controlled repositories :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eg. Bio::EnsEMBL::Object.pm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-pipelin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eg. Bio::EnsEMBL::Pipeline::Job.pm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-analysi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eg. Bio::EnsEMBL::Analysis::Runnable::Blast.pm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re schem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D057-CEAF-4EDF-ABDF-3731108C5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0" y="19288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re schem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F115-E20F-4431-B77D-8DC238019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0" y="19288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476360" y="1484280"/>
            <a:ext cx="3960720" cy="1776240"/>
            <a:chOff x="1476360" y="1484280"/>
            <a:chExt cx="3960720" cy="1776240"/>
          </a:xfrm>
        </p:grpSpPr>
        <p:sp>
          <p:nvSpPr>
            <p:cNvPr id="488" name=""/>
            <p:cNvSpPr/>
            <p:nvPr/>
          </p:nvSpPr>
          <p:spPr>
            <a:xfrm>
              <a:off x="1476360" y="1484280"/>
              <a:ext cx="3960720" cy="28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 (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io::EnsEMBL::Gen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76360" y="1773720"/>
              <a:ext cx="1980360" cy="1486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sis_i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r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56720" y="1773720"/>
              <a:ext cx="1980360" cy="1486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ted_genew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in_co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476360" y="3881520"/>
            <a:ext cx="3960720" cy="2068200"/>
            <a:chOff x="1476360" y="3881520"/>
            <a:chExt cx="3960720" cy="2068200"/>
          </a:xfrm>
        </p:grpSpPr>
        <p:sp>
          <p:nvSpPr>
            <p:cNvPr id="492" name=""/>
            <p:cNvSpPr/>
            <p:nvPr/>
          </p:nvSpPr>
          <p:spPr>
            <a:xfrm>
              <a:off x="1476360" y="3881520"/>
              <a:ext cx="39607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cript (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io::EnsEMBL::Transcrip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76360" y="4218840"/>
              <a:ext cx="1980360" cy="173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cript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sis_i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r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56720" y="4218840"/>
              <a:ext cx="1980360" cy="173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8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ted_genew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in_co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457440" y="326088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57440" y="32130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92360" y="36590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688000" y="2421000"/>
            <a:ext cx="3348000" cy="1619280"/>
            <a:chOff x="5688000" y="2421000"/>
            <a:chExt cx="3348000" cy="1619280"/>
          </a:xfrm>
        </p:grpSpPr>
        <p:sp>
          <p:nvSpPr>
            <p:cNvPr id="499" name=""/>
            <p:cNvSpPr/>
            <p:nvPr/>
          </p:nvSpPr>
          <p:spPr>
            <a:xfrm>
              <a:off x="5688000" y="2421000"/>
              <a:ext cx="3348000" cy="288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on (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io::EnsEMBL::Ex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88000" y="2709720"/>
              <a:ext cx="2112840" cy="1330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on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r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99400" y="2709720"/>
              <a:ext cx="1236600" cy="1330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6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5437080" y="472428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64000" y="44496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97440" y="472428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019920" y="4562640"/>
            <a:ext cx="2609640" cy="870840"/>
            <a:chOff x="6019920" y="4562640"/>
            <a:chExt cx="2609640" cy="870840"/>
          </a:xfrm>
        </p:grpSpPr>
        <p:sp>
          <p:nvSpPr>
            <p:cNvPr id="506" name=""/>
            <p:cNvSpPr/>
            <p:nvPr/>
          </p:nvSpPr>
          <p:spPr>
            <a:xfrm>
              <a:off x="6019920" y="4562640"/>
              <a:ext cx="2609640" cy="286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on_transcri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849560"/>
              <a:ext cx="1674360" cy="58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cript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on_i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92840" y="4849560"/>
              <a:ext cx="936360" cy="58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8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6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7129440" y="40514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29440" y="40035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64360" y="4292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835280" y="1620720"/>
            <a:ext cx="6694200" cy="728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35280" y="2492280"/>
            <a:ext cx="6694200" cy="343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alysi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ules: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le_condit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le_goa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put_ids: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_id_analysi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_id_type_analysi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ob-tracking tables: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b_statu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Pipeline schem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D7A-4D41-4789-A204-7D9C3F9FA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22860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48440" y="166356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156360" y="2502000"/>
            <a:ext cx="144360" cy="3232080"/>
          </a:xfrm>
          <a:custGeom>
            <a:avLst/>
            <a:gdLst>
              <a:gd name="textAreaLeft" fmla="*/ 0 w 144360"/>
              <a:gd name="textAreaRight" fmla="*/ 52200 w 144360"/>
              <a:gd name="textAreaTop" fmla="*/ 84240 h 3232080"/>
              <a:gd name="textAreaBottom" fmla="*/ 3147840 h 32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300720" y="1828800"/>
            <a:ext cx="23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nsembl/sql/table.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300720" y="3946680"/>
            <a:ext cx="23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nsembl-pipeline/sql/table.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. Run RepeatMasker across the genom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. Run Genscan across the genom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o run an analysis we need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to run eg. RepeatMask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able and RunnableDB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and condition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nput ... input_ids !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nalys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5FD2-ABC6-4C59-A46C-9754DDACE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264312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Runnables and RunnableDB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6790-7BF1-495C-9638-0B737359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0" y="30718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23"/>
          <p:cNvCxnSpPr/>
          <p:nvPr/>
        </p:nvCxnSpPr>
        <p:spPr>
          <a:xfrm>
            <a:off x="3285720" y="2786040"/>
            <a:ext cx="7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533" name="Group 28"/>
          <p:cNvGrpSpPr/>
          <p:nvPr/>
        </p:nvGrpSpPr>
        <p:grpSpPr>
          <a:xfrm>
            <a:off x="1500120" y="2500200"/>
            <a:ext cx="1785960" cy="857520"/>
            <a:chOff x="1500120" y="2500200"/>
            <a:chExt cx="1785960" cy="857520"/>
          </a:xfrm>
        </p:grpSpPr>
        <p:sp>
          <p:nvSpPr>
            <p:cNvPr id="534" name="Rectangle 7"/>
            <p:cNvSpPr/>
            <p:nvPr/>
          </p:nvSpPr>
          <p:spPr>
            <a:xfrm>
              <a:off x="1500120" y="2500200"/>
              <a:ext cx="1785960" cy="85752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7"/>
            <p:cNvSpPr/>
            <p:nvPr/>
          </p:nvSpPr>
          <p:spPr>
            <a:xfrm>
              <a:off x="1714320" y="2714400"/>
              <a:ext cx="135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4000680" y="2500200"/>
            <a:ext cx="5072040" cy="32860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4071960" y="25718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nable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4643280" y="3143160"/>
            <a:ext cx="3429000" cy="192888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4714920" y="31719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n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5214960" y="3643200"/>
            <a:ext cx="221472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9"/>
          <p:cNvSpPr/>
          <p:nvPr/>
        </p:nvSpPr>
        <p:spPr>
          <a:xfrm>
            <a:off x="5357880" y="37861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atMas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unnableD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sequence from the databas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s data to Runnabl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output from Runnabl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s output to d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unnable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per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tand-alone from the d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s data from RunnableD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s data to Module eg. Exonera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outpu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output and creates ensembl-objec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s output to RunnableD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Runnables and RunnableDB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8DD7-8267-4F46-AA1A-F1D0577E2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0" y="30718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figuration files: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configuratio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l.pm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control configuration in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-config/human/GRCh37/Bio/Ensembl/Pipe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fig/BatchQueue.p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-specific configuration i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-config/human/GRCh37/Bio/Ensembl/Analysi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fig/Blast.p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ables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le_go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le_condition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mmy analysis for submiss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or from previous analysi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figs and rul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F935-CDE2-4E2E-A0B2-C2797FEF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0" y="3643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figs and rul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3804-3AD0-4C5A-AAE5-2073EC3F3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0" y="3643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763640" y="3875040"/>
            <a:ext cx="2519280" cy="1053720"/>
            <a:chOff x="1763640" y="3875040"/>
            <a:chExt cx="2519280" cy="1053720"/>
          </a:xfrm>
        </p:grpSpPr>
        <p:sp>
          <p:nvSpPr>
            <p:cNvPr id="557" name=""/>
            <p:cNvSpPr/>
            <p:nvPr/>
          </p:nvSpPr>
          <p:spPr>
            <a:xfrm>
              <a:off x="1763640" y="3875040"/>
              <a:ext cx="2519280" cy="33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ule_go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63640" y="4221000"/>
              <a:ext cx="1215720" cy="707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79360" y="4221000"/>
              <a:ext cx="1303200" cy="707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940360" y="3875040"/>
            <a:ext cx="2879640" cy="1424160"/>
            <a:chOff x="5940360" y="3875040"/>
            <a:chExt cx="2879640" cy="1424160"/>
          </a:xfrm>
        </p:grpSpPr>
        <p:sp>
          <p:nvSpPr>
            <p:cNvPr id="561" name=""/>
            <p:cNvSpPr/>
            <p:nvPr/>
          </p:nvSpPr>
          <p:spPr>
            <a:xfrm>
              <a:off x="5940360" y="3875040"/>
              <a:ext cx="287964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ule_condi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40360" y="4221000"/>
              <a:ext cx="1216080" cy="107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56440" y="4221000"/>
              <a:ext cx="1663560" cy="107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mit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mit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eatMas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763640" y="1628640"/>
            <a:ext cx="2952720" cy="1424520"/>
            <a:chOff x="1763640" y="1628640"/>
            <a:chExt cx="2952720" cy="1424520"/>
          </a:xfrm>
        </p:grpSpPr>
        <p:sp>
          <p:nvSpPr>
            <p:cNvPr id="565" name=""/>
            <p:cNvSpPr/>
            <p:nvPr/>
          </p:nvSpPr>
          <p:spPr>
            <a:xfrm>
              <a:off x="1763640" y="1628640"/>
              <a:ext cx="2952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63640" y="1974960"/>
              <a:ext cx="1216080" cy="1078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79720" y="1974960"/>
              <a:ext cx="1736640" cy="1078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mit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eatMas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sc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979720" y="305424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2920" y="4437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79720" y="306864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87640" y="359712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82920" y="410040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72080" y="40528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figs and rul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AA76-E12A-4BCF-A9C2-AC1F1AC2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3643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92360" y="2349360"/>
            <a:ext cx="2952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92360" y="2695680"/>
            <a:ext cx="1216080" cy="181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08440" y="2695680"/>
            <a:ext cx="1736640" cy="181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tCon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Mas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atch_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P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4200" y="2349360"/>
            <a:ext cx="3025800" cy="2165400"/>
            <a:chOff x="5794200" y="2349360"/>
            <a:chExt cx="3025800" cy="2165400"/>
          </a:xfrm>
        </p:grpSpPr>
        <p:sp>
          <p:nvSpPr>
            <p:cNvPr id="582" name=""/>
            <p:cNvSpPr/>
            <p:nvPr/>
          </p:nvSpPr>
          <p:spPr>
            <a:xfrm>
              <a:off x="5794200" y="2349360"/>
              <a:ext cx="3025800" cy="33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_id_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94200" y="2695680"/>
              <a:ext cx="1216080" cy="18190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10280" y="2695680"/>
              <a:ext cx="1809720" cy="18190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4645080" y="35258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35360" y="318924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72080" y="321300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Input ID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7A09-8130-4F6F-A8D7-F0B48DC5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0" y="40798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763640" y="3573360"/>
            <a:ext cx="2952360" cy="1424160"/>
            <a:chOff x="1763640" y="3573360"/>
            <a:chExt cx="2952360" cy="1424160"/>
          </a:xfrm>
        </p:grpSpPr>
        <p:sp>
          <p:nvSpPr>
            <p:cNvPr id="593" name=""/>
            <p:cNvSpPr/>
            <p:nvPr/>
          </p:nvSpPr>
          <p:spPr>
            <a:xfrm>
              <a:off x="1763640" y="3573360"/>
              <a:ext cx="29523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_id_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63640" y="3919320"/>
              <a:ext cx="14248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88520" y="3919320"/>
              <a:ext cx="15274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154560" y="3573360"/>
            <a:ext cx="2521080" cy="2518200"/>
            <a:chOff x="6154560" y="3573360"/>
            <a:chExt cx="2521080" cy="2518200"/>
          </a:xfrm>
        </p:grpSpPr>
        <p:sp>
          <p:nvSpPr>
            <p:cNvPr id="597" name=""/>
            <p:cNvSpPr/>
            <p:nvPr/>
          </p:nvSpPr>
          <p:spPr>
            <a:xfrm>
              <a:off x="6156360" y="3573360"/>
              <a:ext cx="251928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_id_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56360" y="391932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72440" y="3919320"/>
              <a:ext cx="130320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54560" y="501336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70640" y="5013360"/>
              <a:ext cx="130356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924440" y="4221000"/>
            <a:ext cx="1015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53160" y="3740040"/>
            <a:ext cx="13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en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63640" y="1628640"/>
            <a:ext cx="2952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63640" y="1974960"/>
            <a:ext cx="1216080" cy="107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79720" y="1974960"/>
            <a:ext cx="1736640" cy="107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tCon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Mas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79720" y="306864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90640" y="3308400"/>
            <a:ext cx="3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8764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genebuil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8501040" y="5929200"/>
            <a:ext cx="64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A0F9-931C-4824-956F-E8C8E515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put_id for every jo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bles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put_id_analysis and input_id_type_analysi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typ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eg. Chromosome, Contig, Slic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ffold:gorGor1:Scaffold_1000:1:65750:1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eg. Fasta chunk of 100 cDNA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racking job run status 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b_st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les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Input ID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80BB-2196-493C-9C4A-C006B327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40798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Jobs on the farm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511B-F607-41A9-B5EE-3EE49CA2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2"/>
          <p:cNvSpPr/>
          <p:nvPr/>
        </p:nvSpPr>
        <p:spPr>
          <a:xfrm>
            <a:off x="0" y="44290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690560" y="1600200"/>
            <a:ext cx="2521080" cy="3554640"/>
            <a:chOff x="1690560" y="1600200"/>
            <a:chExt cx="2521080" cy="3554640"/>
          </a:xfrm>
        </p:grpSpPr>
        <p:sp>
          <p:nvSpPr>
            <p:cNvPr id="620" name=""/>
            <p:cNvSpPr/>
            <p:nvPr/>
          </p:nvSpPr>
          <p:spPr>
            <a:xfrm>
              <a:off x="1692360" y="1600200"/>
              <a:ext cx="251928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_id_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92360" y="194616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08440" y="1946160"/>
              <a:ext cx="130320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90560" y="304020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906640" y="3040200"/>
              <a:ext cx="130356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92360" y="407664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08440" y="4076640"/>
              <a:ext cx="130320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076720" y="1484280"/>
            <a:ext cx="3738600" cy="2104920"/>
            <a:chOff x="5076720" y="1484280"/>
            <a:chExt cx="3738600" cy="2104920"/>
          </a:xfrm>
        </p:grpSpPr>
        <p:sp>
          <p:nvSpPr>
            <p:cNvPr id="628" name=""/>
            <p:cNvSpPr/>
            <p:nvPr/>
          </p:nvSpPr>
          <p:spPr>
            <a:xfrm>
              <a:off x="5078520" y="1484280"/>
              <a:ext cx="373680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78520" y="1830240"/>
              <a:ext cx="1216080" cy="107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76720" y="2881440"/>
              <a:ext cx="1216080" cy="707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_id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94600" y="1844640"/>
              <a:ext cx="1215720" cy="107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10320" y="1844640"/>
              <a:ext cx="1303560" cy="107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96040" y="2881440"/>
              <a:ext cx="1216080" cy="707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12120" y="2881440"/>
              <a:ext cx="1303200" cy="707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081760" y="4076640"/>
            <a:ext cx="373680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_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081760" y="4422600"/>
            <a:ext cx="1215720" cy="144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_i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_i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_i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_i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297480" y="4430880"/>
            <a:ext cx="1216080" cy="144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513560" y="4430880"/>
            <a:ext cx="1303560" cy="144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_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_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11640" y="2276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40360" y="1916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59280" y="1916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435720" y="357336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724800" y="381312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724800" y="35942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bles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ck every input_id (job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b and job_status tabl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Status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nding, Reading, Running, Writing, AWO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is_current fla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Jobs on the farm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7E4-C2F7-4EA2-9D73-BDCC210B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2"/>
          <p:cNvSpPr/>
          <p:nvPr/>
        </p:nvSpPr>
        <p:spPr>
          <a:xfrm>
            <a:off x="0" y="44290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Jobs on the farm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AADC-294C-403E-9CE3-8C1BC2648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3651480" y="22431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6558840" y="478152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y if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3493440" y="3435480"/>
            <a:ext cx="13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put_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3224520" y="478620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on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997000" y="5786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result to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1440000" y="2427120"/>
            <a:ext cx="155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0"/>
          <p:cNvSpPr/>
          <p:nvPr/>
        </p:nvSpPr>
        <p:spPr>
          <a:xfrm>
            <a:off x="5807160" y="5219640"/>
            <a:ext cx="1371600" cy="10670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864" h="672">
                <a:moveTo>
                  <a:pt x="0" y="672"/>
                </a:moveTo>
                <a:cubicBezTo>
                  <a:pt x="288" y="608"/>
                  <a:pt x="576" y="544"/>
                  <a:pt x="720" y="432"/>
                </a:cubicBezTo>
                <a:cubicBezTo>
                  <a:pt x="864" y="320"/>
                  <a:pt x="864" y="160"/>
                  <a:pt x="8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1"/>
          <p:cNvSpPr/>
          <p:nvPr/>
        </p:nvSpPr>
        <p:spPr>
          <a:xfrm>
            <a:off x="4968720" y="3606840"/>
            <a:ext cx="2210040" cy="118116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392" h="744">
                <a:moveTo>
                  <a:pt x="1392" y="744"/>
                </a:moveTo>
                <a:cubicBezTo>
                  <a:pt x="1340" y="492"/>
                  <a:pt x="1288" y="240"/>
                  <a:pt x="1056" y="120"/>
                </a:cubicBezTo>
                <a:cubicBezTo>
                  <a:pt x="824" y="0"/>
                  <a:pt x="412" y="12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2"/>
          <p:cNvSpPr/>
          <p:nvPr/>
        </p:nvSpPr>
        <p:spPr>
          <a:xfrm>
            <a:off x="4054320" y="281952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3"/>
          <p:cNvSpPr/>
          <p:nvPr/>
        </p:nvSpPr>
        <p:spPr>
          <a:xfrm>
            <a:off x="4054320" y="514368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4"/>
          <p:cNvSpPr/>
          <p:nvPr/>
        </p:nvSpPr>
        <p:spPr>
          <a:xfrm>
            <a:off x="4054320" y="4178160"/>
            <a:ext cx="152640" cy="609840"/>
          </a:xfrm>
          <a:prstGeom prst="downArrow">
            <a:avLst>
              <a:gd name="adj1" fmla="val 50000"/>
              <a:gd name="adj2" fmla="val 99882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5"/>
          <p:cNvSpPr/>
          <p:nvPr/>
        </p:nvSpPr>
        <p:spPr>
          <a:xfrm>
            <a:off x="2682720" y="2638440"/>
            <a:ext cx="1371600" cy="304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864" h="192">
                <a:moveTo>
                  <a:pt x="0" y="0"/>
                </a:moveTo>
                <a:cubicBezTo>
                  <a:pt x="264" y="8"/>
                  <a:pt x="528" y="16"/>
                  <a:pt x="672" y="48"/>
                </a:cubicBezTo>
                <a:cubicBezTo>
                  <a:pt x="816" y="80"/>
                  <a:pt x="840" y="136"/>
                  <a:pt x="864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6"/>
          <p:cNvSpPr/>
          <p:nvPr/>
        </p:nvSpPr>
        <p:spPr>
          <a:xfrm flipH="1">
            <a:off x="4206960" y="2638440"/>
            <a:ext cx="1371600" cy="30492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864" h="192">
                <a:moveTo>
                  <a:pt x="0" y="0"/>
                </a:moveTo>
                <a:cubicBezTo>
                  <a:pt x="264" y="8"/>
                  <a:pt x="528" y="16"/>
                  <a:pt x="672" y="48"/>
                </a:cubicBezTo>
                <a:cubicBezTo>
                  <a:pt x="816" y="80"/>
                  <a:pt x="840" y="136"/>
                  <a:pt x="864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2343240" y="1386000"/>
            <a:ext cx="57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mitContig (Dummy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8"/>
          <p:cNvSpPr/>
          <p:nvPr/>
        </p:nvSpPr>
        <p:spPr>
          <a:xfrm>
            <a:off x="4059360" y="17478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2"/>
          <p:cNvSpPr/>
          <p:nvPr/>
        </p:nvSpPr>
        <p:spPr>
          <a:xfrm>
            <a:off x="0" y="450072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Rulemanag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49FF-95AE-4719-9DA5-9E63954EA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2152800" y="3124080"/>
            <a:ext cx="67053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oreach input_id_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oreach input_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un job i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_type eq input_id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 conditions are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is not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is failed and can be ret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ch size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2122560" y="1800360"/>
            <a:ext cx="5807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et_up_pipe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all rules and input_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y input_ids list according to comman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 rot="16200000">
            <a:off x="1126440" y="198180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 rot="16200000">
            <a:off x="371520" y="4441680"/>
            <a:ext cx="27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init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0" y="4786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2"/>
          <p:cNvSpPr/>
          <p:nvPr/>
        </p:nvSpPr>
        <p:spPr>
          <a:xfrm>
            <a:off x="1571760" y="1643040"/>
            <a:ext cx="6286320" cy="1357200"/>
          </a:xfrm>
          <a:prstGeom prst="rect">
            <a:avLst/>
          </a:prstGeom>
          <a:solidFill>
            <a:srgbClr val="ff33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3"/>
          <p:cNvSpPr/>
          <p:nvPr/>
        </p:nvSpPr>
        <p:spPr>
          <a:xfrm>
            <a:off x="1571760" y="3071880"/>
            <a:ext cx="6286320" cy="2857320"/>
          </a:xfrm>
          <a:prstGeom prst="rect">
            <a:avLst/>
          </a:prstGeom>
          <a:solidFill>
            <a:srgbClr val="ff33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anks to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ve Searl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mon Whi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usan Fairley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monida Zadiss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Amy Tan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Magali Ruffi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8501040" y="5929200"/>
            <a:ext cx="64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D31F-1D90-4EE2-9564-DF718D28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3124080" y="607212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643960" y="5929200"/>
            <a:ext cx="500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6FFC-1880-4D7E-873D-24325EC18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genebuil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opics covered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oading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comput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ted step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tep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NA and EST alignmen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R addi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build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genebuild processing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oal : import genomic seq into d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ownload Sequence and assembl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reate Ensembl-schema databas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oad using scripts: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 involved : seq_region,meta, meta_coord, coord_system, assembly, dn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Exercise 1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ssembly loadi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A014-A26C-4827-AFF0-C5913DEA1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200016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9523-8038-4B81-967A-099F753F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500120" y="1714680"/>
            <a:ext cx="7500960" cy="4213800"/>
            <a:chOff x="1500120" y="1714680"/>
            <a:chExt cx="7500960" cy="4213800"/>
          </a:xfrm>
        </p:grpSpPr>
        <p:grpSp>
          <p:nvGrpSpPr>
            <p:cNvPr id="215" name="Group 5"/>
            <p:cNvGrpSpPr/>
            <p:nvPr/>
          </p:nvGrpSpPr>
          <p:grpSpPr>
            <a:xfrm>
              <a:off x="1507680" y="2639160"/>
              <a:ext cx="7483320" cy="3289320"/>
              <a:chOff x="1507680" y="2639160"/>
              <a:chExt cx="7483320" cy="3289320"/>
            </a:xfrm>
          </p:grpSpPr>
          <p:grpSp>
            <p:nvGrpSpPr>
              <p:cNvPr id="216" name="Group 6"/>
              <p:cNvGrpSpPr/>
              <p:nvPr/>
            </p:nvGrpSpPr>
            <p:grpSpPr>
              <a:xfrm>
                <a:off x="1507680" y="2639160"/>
                <a:ext cx="7460280" cy="493200"/>
                <a:chOff x="1507680" y="2639160"/>
                <a:chExt cx="7460280" cy="493200"/>
              </a:xfrm>
            </p:grpSpPr>
            <p:sp>
              <p:nvSpPr>
                <p:cNvPr id="217" name="Text Box 7"/>
                <p:cNvSpPr/>
                <p:nvPr/>
              </p:nvSpPr>
              <p:spPr>
                <a:xfrm>
                  <a:off x="1507680" y="2639160"/>
                  <a:ext cx="7460280" cy="4932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Chromosome 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8"/>
                <p:cNvSpPr/>
                <p:nvPr/>
              </p:nvSpPr>
              <p:spPr>
                <a:xfrm>
                  <a:off x="4912560" y="2639160"/>
                  <a:ext cx="310320" cy="493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9"/>
              <p:cNvGrpSpPr/>
              <p:nvPr/>
            </p:nvGrpSpPr>
            <p:grpSpPr>
              <a:xfrm>
                <a:off x="1507680" y="3830760"/>
                <a:ext cx="7461360" cy="498960"/>
                <a:chOff x="1507680" y="3830760"/>
                <a:chExt cx="7461360" cy="498960"/>
              </a:xfrm>
            </p:grpSpPr>
            <p:sp>
              <p:nvSpPr>
                <p:cNvPr id="220" name="Text Box 10"/>
                <p:cNvSpPr/>
                <p:nvPr/>
              </p:nvSpPr>
              <p:spPr>
                <a:xfrm>
                  <a:off x="5238360" y="3830760"/>
                  <a:ext cx="3730680" cy="493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upercontig 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11"/>
                <p:cNvSpPr/>
                <p:nvPr/>
              </p:nvSpPr>
              <p:spPr>
                <a:xfrm>
                  <a:off x="1507680" y="3836520"/>
                  <a:ext cx="3421440" cy="493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upercontig 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12"/>
              <p:cNvGrpSpPr/>
              <p:nvPr/>
            </p:nvGrpSpPr>
            <p:grpSpPr>
              <a:xfrm>
                <a:off x="1510920" y="4991040"/>
                <a:ext cx="7480080" cy="937440"/>
                <a:chOff x="1510920" y="4991040"/>
                <a:chExt cx="7480080" cy="937440"/>
              </a:xfrm>
            </p:grpSpPr>
            <p:grpSp>
              <p:nvGrpSpPr>
                <p:cNvPr id="223" name="Group 13"/>
                <p:cNvGrpSpPr/>
                <p:nvPr/>
              </p:nvGrpSpPr>
              <p:grpSpPr>
                <a:xfrm>
                  <a:off x="1510920" y="4991040"/>
                  <a:ext cx="3422880" cy="937440"/>
                  <a:chOff x="1510920" y="4991040"/>
                  <a:chExt cx="3422880" cy="937440"/>
                </a:xfrm>
              </p:grpSpPr>
              <p:sp>
                <p:nvSpPr>
                  <p:cNvPr id="224" name="Text Box 14"/>
                  <p:cNvSpPr/>
                  <p:nvPr/>
                </p:nvSpPr>
                <p:spPr>
                  <a:xfrm>
                    <a:off x="1510920" y="5209920"/>
                    <a:ext cx="1864800" cy="49320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1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5"/>
                  <p:cNvSpPr/>
                  <p:nvPr/>
                </p:nvSpPr>
                <p:spPr>
                  <a:xfrm>
                    <a:off x="2945880" y="5434920"/>
                    <a:ext cx="1191600" cy="49356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Text Box 16"/>
                  <p:cNvSpPr/>
                  <p:nvPr/>
                </p:nvSpPr>
                <p:spPr>
                  <a:xfrm>
                    <a:off x="3741840" y="4991040"/>
                    <a:ext cx="1191960" cy="49320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7"/>
                <p:cNvGrpSpPr/>
                <p:nvPr/>
              </p:nvGrpSpPr>
              <p:grpSpPr>
                <a:xfrm>
                  <a:off x="5269680" y="5202720"/>
                  <a:ext cx="3721320" cy="717840"/>
                  <a:chOff x="5269680" y="5202720"/>
                  <a:chExt cx="3721320" cy="717840"/>
                </a:xfrm>
              </p:grpSpPr>
              <p:sp>
                <p:nvSpPr>
                  <p:cNvPr id="228" name="Text Box 18"/>
                  <p:cNvSpPr/>
                  <p:nvPr/>
                </p:nvSpPr>
                <p:spPr>
                  <a:xfrm>
                    <a:off x="5269680" y="5202720"/>
                    <a:ext cx="2166840" cy="49284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Text Box 19"/>
                  <p:cNvSpPr/>
                  <p:nvPr/>
                </p:nvSpPr>
                <p:spPr>
                  <a:xfrm>
                    <a:off x="6813360" y="5427360"/>
                    <a:ext cx="2177640" cy="49320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5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0" name="Line 20"/>
              <p:cNvSpPr/>
              <p:nvPr/>
            </p:nvSpPr>
            <p:spPr>
              <a:xfrm flipH="1">
                <a:off x="5064840" y="3274560"/>
                <a:ext cx="6480" cy="45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21"/>
              <p:cNvSpPr/>
              <p:nvPr/>
            </p:nvSpPr>
            <p:spPr>
              <a:xfrm flipH="1">
                <a:off x="5061600" y="4445280"/>
                <a:ext cx="6480" cy="45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 Box 22"/>
            <p:cNvSpPr/>
            <p:nvPr/>
          </p:nvSpPr>
          <p:spPr>
            <a:xfrm>
              <a:off x="1500120" y="1714680"/>
              <a:ext cx="7500960" cy="74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 supercontig is assembled from overlapping contig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2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ssembly 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6"/>
          <p:cNvSpPr/>
          <p:nvPr/>
        </p:nvSpPr>
        <p:spPr>
          <a:xfrm>
            <a:off x="0" y="200016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428480" y="1571400"/>
            <a:ext cx="72579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Repeat featur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st, RepeatMasker, TRF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Ab initio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gene prediction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sca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Blast alignment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prot, Unigene, Vertrn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G (CpG islands)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cription start sites (Eponine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NA gen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Raw Comput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5FDA-9D89-40C7-BFB9-CD287871E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242892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put = species-specific protei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BI Taxonomy websi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ough gene posi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atch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search spac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Coding transcript structure predic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onerate cdna2genome (human, mouse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argetted ste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C2A9-C822-422A-B3BC-252BAFC99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28576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argetted ste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C951-C445-4EDA-8919-041F2DA6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0" y="28576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60560" y="1771560"/>
            <a:ext cx="4932360" cy="50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08720" y="1773360"/>
            <a:ext cx="17272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020000" y="1916280"/>
            <a:ext cx="216000" cy="215640"/>
            <a:chOff x="7020000" y="1916280"/>
            <a:chExt cx="216000" cy="215640"/>
          </a:xfrm>
        </p:grpSpPr>
        <p:sp>
          <p:nvSpPr>
            <p:cNvPr id="252" name=""/>
            <p:cNvSpPr/>
            <p:nvPr/>
          </p:nvSpPr>
          <p:spPr>
            <a:xfrm>
              <a:off x="7128000" y="191628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20000" y="202392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5280" y="2565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256536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P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60560" y="3213000"/>
            <a:ext cx="4932360" cy="911160"/>
            <a:chOff x="1960560" y="3213000"/>
            <a:chExt cx="4932360" cy="911160"/>
          </a:xfrm>
        </p:grpSpPr>
        <p:sp>
          <p:nvSpPr>
            <p:cNvPr id="257" name=""/>
            <p:cNvSpPr/>
            <p:nvPr/>
          </p:nvSpPr>
          <p:spPr>
            <a:xfrm>
              <a:off x="1960560" y="3619440"/>
              <a:ext cx="4932360" cy="504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68560" y="3213000"/>
              <a:ext cx="360360" cy="397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9640" y="3213000"/>
              <a:ext cx="503280" cy="397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13200" y="3213000"/>
              <a:ext cx="863640" cy="397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960560" y="5567400"/>
            <a:ext cx="4932360" cy="50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4368960"/>
            <a:ext cx="0" cy="42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436896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Gene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968560" y="5160960"/>
            <a:ext cx="3024360" cy="396720"/>
            <a:chOff x="2968560" y="5160960"/>
            <a:chExt cx="3024360" cy="396720"/>
          </a:xfrm>
        </p:grpSpPr>
        <p:sp>
          <p:nvSpPr>
            <p:cNvPr id="265" name=""/>
            <p:cNvSpPr/>
            <p:nvPr/>
          </p:nvSpPr>
          <p:spPr>
            <a:xfrm>
              <a:off x="2968560" y="5160960"/>
              <a:ext cx="36036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89640" y="5160960"/>
              <a:ext cx="50328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13200" y="5160960"/>
              <a:ext cx="86364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28920" y="5300640"/>
              <a:ext cx="595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8920" y="5300640"/>
              <a:ext cx="72072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4:15:35Z</dcterms:created>
  <dc:creator>ba1</dc:creator>
  <dc:description/>
  <dc:language>en-US</dc:language>
  <cp:lastModifiedBy>ba1</cp:lastModifiedBy>
  <dcterms:modified xsi:type="dcterms:W3CDTF">2009-11-13T15:51:28Z</dcterms:modified>
  <cp:revision>191</cp:revision>
  <dc:subject/>
  <dc:title>Slide 1</dc:title>
</cp:coreProperties>
</file>