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76DE-7CF8-4CCA-B5C8-B6F0A78027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633C-438C-4D69-92FA-12EE15FCC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5F5-4ACA-44ED-8763-D0E005D13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29B7-00C3-4A22-B37D-73332EFE6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ECAD-4E0B-477A-AB18-1E3B13FB1B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1DA5-6505-4A6E-A3D5-0DA4164E86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80C0-0F34-4869-874D-2971DA100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2CCE-171B-4BF0-B465-CCB7E63F2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246C-81DC-408F-A312-D9D4A651A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3C34-A2A5-4E8B-9555-9CE261247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F279-D540-43C8-953D-9C7D98E113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E20D-6B20-4FA5-B5CD-867E9EC77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61B-9DCE-42F0-B669-6FBCFE2C9B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1C11-13B3-44E8-AF18-04E400FC6C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FBF1-6BC5-4C8F-AE4D-49CAC1BDA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EE7-8DB8-46E8-9CCF-D9D2D9AC1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DA6E-A7FB-4193-9E81-EEB6BD23A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CFCD-6D36-43F6-82F3-B4A56C110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81ED-BEAA-41BA-A9B3-6CF79A1F5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5FD3-1827-4391-932D-5BEC4A6AA9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B911-405A-424D-98A0-9AEFC544D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7419-2F79-4CE4-A7B7-4011E62F3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3530-EFE9-424D-8073-9CE15743D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5725-D81C-4B16-A4B9-9CAA8910A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DA38-2D13-472F-9EFF-8854083A4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A399-F046-4A60-B879-DAABEB22ED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7EC2-85A0-4F37-A003-3CCC80A69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2812-F7C6-41C4-8F08-8B8E91F01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A737-6134-4773-A1A3-7B0E6648B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5BC6-C6DF-433F-8429-83F1A941B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D942-268A-40AA-8166-A40C1D5FA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5EBB-BD53-4C03-BFAB-36994FE27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33F7-79C3-4EFD-A0C2-FAF714072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585-F370-4709-871B-9257AB5A5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5A2E-2920-400C-8568-9C2DF42390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704-3DA6-427C-9A1F-34FF204F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836-AD77-4CED-B764-EB257148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211-6D1E-406D-A385-6D46E469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CC3-6774-4497-A747-6B6A8329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AC07-EEFA-49B4-88D5-6D3430A3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5524-120A-4150-A519-105B56C2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A97D-AF77-4330-A219-B08EC533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52C8-8FC6-4C44-AC3B-D48F082D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7AB0-231D-4138-B848-7EE11DAC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6BCA-C34E-4A3E-A308-D235A69E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97BD-436E-4785-B945-DC37D9FD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3B1-98F4-417C-A85E-A8B6D55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A958-4CEA-4FA8-8F2B-1F20117E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9F1F-7DD7-473E-98C6-70299A2A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D6D0-9716-4965-AA46-01AEFB12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47EF-A592-4791-B184-B6917027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0F2A-AB9C-49C2-8A29-377373B4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CAF88-5FFC-4FF2-818A-D53320F9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38ED7-9B8E-44CC-9FCB-3E760B0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04974-4492-48CE-ADC0-83907D3B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4EDF8-76CA-4C31-8F5F-5C90ADD9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822B4-E95B-4608-B84C-D5E55C4E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9A3-3F95-4963-B991-DAFBAB14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AE06B-7095-4D0B-8AE2-9438510C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CDA61-ECB2-4F67-8634-495EA321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A8889-43A5-44DF-82A8-9B6A6A4A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35342-392C-4EEF-8496-D13B07B7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E260E-9337-4183-9E31-51D9CDB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A0F7E-B5B3-4D8B-A23F-E8CB50CE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30E33-AF0E-40A4-8EDD-422B834A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169E9-DCD8-405E-9AF0-BF1AF5F4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9FBDE-B37D-45E1-B3CE-94185F05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846E7-53C4-4020-BA4C-FC766A2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A26-30FC-4E2F-AC35-08D14FD7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33296-7456-4D4B-BD68-E2D0E225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FABEE-7196-4BD1-AF8D-82C32E55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CEF78-C999-49DA-A939-65B040D1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8B8E1-14D0-4391-AAC7-C967B3B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266F0-1F7D-4712-8142-13578368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EA115-B9E2-405D-8020-21662B43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298CF-D76B-41E1-9A8B-25E4A61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15C13-A34E-4D87-B665-2D937BD0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828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90640" y="160020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8592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828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290640" y="3964320"/>
            <a:ext cx="238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0CDFB-47D6-4962-B932-91B6B57C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A60-9D0D-4CB4-B8DB-0CE27B5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376-629C-4F6A-A414-8BCCD696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84B-3A2B-4819-BA58-2CEEBC9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8520" y="396432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922-D117-4BF0-AE31-13326D9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8520" y="1600200"/>
            <a:ext cx="361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5920" y="3964320"/>
            <a:ext cx="7400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9C7-2484-4968-A25B-0AF17429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945-ACB0-4C22-9468-3767F42E3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Footer"/>
          <p:cNvPicPr/>
          <p:nvPr/>
        </p:nvPicPr>
        <p:blipFill>
          <a:blip r:embed="rId2"/>
          <a:stretch/>
        </p:blipFill>
        <p:spPr>
          <a:xfrm>
            <a:off x="0" y="6324480"/>
            <a:ext cx="9145440" cy="533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SangerReversedLargeRGB"/>
          <p:cNvPicPr/>
          <p:nvPr/>
        </p:nvPicPr>
        <p:blipFill>
          <a:blip r:embed="rId3"/>
          <a:stretch/>
        </p:blipFill>
        <p:spPr>
          <a:xfrm>
            <a:off x="152280" y="6375240"/>
            <a:ext cx="1371600" cy="3985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ebang-400dpi"/>
          <p:cNvPicPr/>
          <p:nvPr/>
        </p:nvPicPr>
        <p:blipFill>
          <a:blip r:embed="rId4"/>
          <a:stretch/>
        </p:blipFill>
        <p:spPr>
          <a:xfrm>
            <a:off x="4343400" y="6353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EBI"/>
          <p:cNvPicPr/>
          <p:nvPr/>
        </p:nvPicPr>
        <p:blipFill>
          <a:blip r:embed="rId5"/>
          <a:stretch/>
        </p:blipFill>
        <p:spPr>
          <a:xfrm>
            <a:off x="7543800" y="6381720"/>
            <a:ext cx="1295280" cy="40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Footer"/>
          <p:cNvPicPr/>
          <p:nvPr/>
        </p:nvPicPr>
        <p:blipFill>
          <a:blip r:embed="rId2"/>
          <a:stretch/>
        </p:blipFill>
        <p:spPr>
          <a:xfrm>
            <a:off x="0" y="6324480"/>
            <a:ext cx="914544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SangerReversedLargeRGB"/>
          <p:cNvPicPr/>
          <p:nvPr/>
        </p:nvPicPr>
        <p:blipFill>
          <a:blip r:embed="rId3"/>
          <a:stretch/>
        </p:blipFill>
        <p:spPr>
          <a:xfrm>
            <a:off x="152280" y="6375240"/>
            <a:ext cx="1371600" cy="398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ebang-400dpi"/>
          <p:cNvPicPr/>
          <p:nvPr/>
        </p:nvPicPr>
        <p:blipFill>
          <a:blip r:embed="rId4"/>
          <a:stretch/>
        </p:blipFill>
        <p:spPr>
          <a:xfrm>
            <a:off x="4343400" y="6353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EBI"/>
          <p:cNvPicPr/>
          <p:nvPr/>
        </p:nvPicPr>
        <p:blipFill>
          <a:blip r:embed="rId5"/>
          <a:stretch/>
        </p:blipFill>
        <p:spPr>
          <a:xfrm>
            <a:off x="7543800" y="6381720"/>
            <a:ext cx="1295280" cy="40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501040" y="5928840"/>
            <a:ext cx="6429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D432-0391-465D-90D4-D2BCF738C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Footer"/>
          <p:cNvPicPr/>
          <p:nvPr/>
        </p:nvPicPr>
        <p:blipFill>
          <a:blip r:embed="rId2"/>
          <a:stretch/>
        </p:blipFill>
        <p:spPr>
          <a:xfrm>
            <a:off x="0" y="6324480"/>
            <a:ext cx="914544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SangerReversedLargeRGB"/>
          <p:cNvPicPr/>
          <p:nvPr/>
        </p:nvPicPr>
        <p:blipFill>
          <a:blip r:embed="rId3"/>
          <a:stretch/>
        </p:blipFill>
        <p:spPr>
          <a:xfrm>
            <a:off x="152280" y="6375240"/>
            <a:ext cx="1371600" cy="398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ebang-400dpi"/>
          <p:cNvPicPr/>
          <p:nvPr/>
        </p:nvPicPr>
        <p:blipFill>
          <a:blip r:embed="rId4"/>
          <a:stretch/>
        </p:blipFill>
        <p:spPr>
          <a:xfrm>
            <a:off x="4343400" y="6353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EBI"/>
          <p:cNvPicPr/>
          <p:nvPr/>
        </p:nvPicPr>
        <p:blipFill>
          <a:blip r:embed="rId5"/>
          <a:stretch/>
        </p:blipFill>
        <p:spPr>
          <a:xfrm>
            <a:off x="7543800" y="6381720"/>
            <a:ext cx="1295280" cy="406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0" y="1417680"/>
            <a:ext cx="1440000" cy="410940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ndard 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mbly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w comp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ted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ity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NA and EST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T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bui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genebuild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529120" y="5928840"/>
            <a:ext cx="6145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9F4-04C3-42C4-8ADC-99F7B3BAA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2" descr="Footer"/>
          <p:cNvPicPr/>
          <p:nvPr/>
        </p:nvPicPr>
        <p:blipFill>
          <a:blip r:embed="rId2"/>
          <a:stretch/>
        </p:blipFill>
        <p:spPr>
          <a:xfrm>
            <a:off x="0" y="6324480"/>
            <a:ext cx="914544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SangerReversedLargeRGB"/>
          <p:cNvPicPr/>
          <p:nvPr/>
        </p:nvPicPr>
        <p:blipFill>
          <a:blip r:embed="rId3"/>
          <a:stretch/>
        </p:blipFill>
        <p:spPr>
          <a:xfrm>
            <a:off x="152280" y="6375240"/>
            <a:ext cx="1371600" cy="39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ebang-400dpi"/>
          <p:cNvPicPr/>
          <p:nvPr/>
        </p:nvPicPr>
        <p:blipFill>
          <a:blip r:embed="rId4"/>
          <a:stretch/>
        </p:blipFill>
        <p:spPr>
          <a:xfrm>
            <a:off x="4343400" y="6353280"/>
            <a:ext cx="53352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EBI"/>
          <p:cNvPicPr/>
          <p:nvPr/>
        </p:nvPicPr>
        <p:blipFill>
          <a:blip r:embed="rId5"/>
          <a:stretch/>
        </p:blipFill>
        <p:spPr>
          <a:xfrm>
            <a:off x="7543800" y="6381720"/>
            <a:ext cx="1295280" cy="406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0"/>
          <p:cNvSpPr/>
          <p:nvPr/>
        </p:nvSpPr>
        <p:spPr>
          <a:xfrm>
            <a:off x="0" y="1417680"/>
            <a:ext cx="1440000" cy="429192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peline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nables and RunnableD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s an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put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s on the f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le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8529120" y="5928840"/>
            <a:ext cx="6145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9ED7-ECDF-4FD8-90F8-5CB318B61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GeneBuildi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nsembl Developers’ Workshop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ronwen Aken and Jan Vog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6516720" y="0"/>
            <a:ext cx="2627280" cy="487440"/>
            <a:chOff x="6516720" y="0"/>
            <a:chExt cx="2627280" cy="487440"/>
          </a:xfrm>
        </p:grpSpPr>
        <p:pic>
          <p:nvPicPr>
            <p:cNvPr id="192" name="Picture 6" descr=""/>
            <p:cNvPicPr/>
            <p:nvPr/>
          </p:nvPicPr>
          <p:blipFill>
            <a:blip r:embed="rId1"/>
            <a:stretch/>
          </p:blipFill>
          <p:spPr>
            <a:xfrm>
              <a:off x="6516720" y="0"/>
              <a:ext cx="143820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2" descr="embl-ebi_poster_logo"/>
            <p:cNvPicPr/>
            <p:nvPr/>
          </p:nvPicPr>
          <p:blipFill>
            <a:blip r:embed="rId2"/>
            <a:stretch/>
          </p:blipFill>
          <p:spPr>
            <a:xfrm>
              <a:off x="8001000" y="0"/>
              <a:ext cx="1143000" cy="48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= proteins from related speci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ed into ‘mammal’, ‘vertebrate’, ‘non_vertebrate’, etc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Fills in gaps where species-specific information is not availabl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Rough gene position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Coding transcript structure predic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Similarity Ste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CC6E-D601-4552-AE61-3082887E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321480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Similarity Ste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526F-BAE8-4DF2-A30F-330A7C6F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321480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60560" y="1771560"/>
            <a:ext cx="4932360" cy="50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1773360"/>
            <a:ext cx="1295640" cy="398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020000" y="1916280"/>
            <a:ext cx="216000" cy="215640"/>
            <a:chOff x="7020000" y="1916280"/>
            <a:chExt cx="216000" cy="215640"/>
          </a:xfrm>
        </p:grpSpPr>
        <p:sp>
          <p:nvSpPr>
            <p:cNvPr id="283" name=""/>
            <p:cNvSpPr/>
            <p:nvPr/>
          </p:nvSpPr>
          <p:spPr>
            <a:xfrm>
              <a:off x="7128000" y="191628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020000" y="202392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635280" y="2565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51280" y="256536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5280" y="4368960"/>
            <a:ext cx="0" cy="42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1280" y="436896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Gene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89640" y="1625760"/>
            <a:ext cx="1225440" cy="142560"/>
            <a:chOff x="5489640" y="1625760"/>
            <a:chExt cx="1225440" cy="142560"/>
          </a:xfrm>
        </p:grpSpPr>
        <p:sp>
          <p:nvSpPr>
            <p:cNvPr id="290" name=""/>
            <p:cNvSpPr/>
            <p:nvPr/>
          </p:nvSpPr>
          <p:spPr>
            <a:xfrm>
              <a:off x="5489640" y="1625760"/>
              <a:ext cx="360000" cy="142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4360" y="1625760"/>
              <a:ext cx="358200" cy="142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99080" y="1625760"/>
              <a:ext cx="215640" cy="1425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89640" y="1697040"/>
              <a:ext cx="122544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960560" y="1625760"/>
            <a:ext cx="1584360" cy="145800"/>
            <a:chOff x="1960560" y="1625760"/>
            <a:chExt cx="1584360" cy="145800"/>
          </a:xfrm>
        </p:grpSpPr>
        <p:sp>
          <p:nvSpPr>
            <p:cNvPr id="295" name=""/>
            <p:cNvSpPr/>
            <p:nvPr/>
          </p:nvSpPr>
          <p:spPr>
            <a:xfrm>
              <a:off x="2465280" y="1625760"/>
              <a:ext cx="358920" cy="142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70000" y="1625760"/>
              <a:ext cx="216000" cy="142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960560" y="1625760"/>
              <a:ext cx="1584360" cy="145800"/>
              <a:chOff x="1960560" y="1625760"/>
              <a:chExt cx="1584360" cy="1458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60560" y="1625760"/>
                <a:ext cx="36036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174760" y="1629000"/>
                <a:ext cx="1370160" cy="142560"/>
                <a:chOff x="2174760" y="1629000"/>
                <a:chExt cx="1370160" cy="142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328920" y="1629000"/>
                  <a:ext cx="216000" cy="142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174760" y="1700280"/>
                  <a:ext cx="1225800" cy="0"/>
                </a:xfrm>
                <a:prstGeom prst="line">
                  <a:avLst/>
                </a:prstGeom>
                <a:ln w="381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1960560" y="3213000"/>
            <a:ext cx="4932360" cy="911160"/>
            <a:chOff x="1960560" y="3213000"/>
            <a:chExt cx="4932360" cy="911160"/>
          </a:xfrm>
        </p:grpSpPr>
        <p:sp>
          <p:nvSpPr>
            <p:cNvPr id="303" name=""/>
            <p:cNvSpPr/>
            <p:nvPr/>
          </p:nvSpPr>
          <p:spPr>
            <a:xfrm>
              <a:off x="1960560" y="3619440"/>
              <a:ext cx="4932360" cy="504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508720" y="3498840"/>
              <a:ext cx="1225440" cy="142920"/>
              <a:chOff x="5508720" y="3498840"/>
              <a:chExt cx="1225440" cy="142920"/>
            </a:xfrm>
          </p:grpSpPr>
          <p:sp>
            <p:nvSpPr>
              <p:cNvPr id="305" name=""/>
              <p:cNvSpPr/>
              <p:nvPr/>
            </p:nvSpPr>
            <p:spPr>
              <a:xfrm>
                <a:off x="5508720" y="3498840"/>
                <a:ext cx="3600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13440" y="3498840"/>
                <a:ext cx="3582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18160" y="3498840"/>
                <a:ext cx="21564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08720" y="3570480"/>
                <a:ext cx="122544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979640" y="3498840"/>
              <a:ext cx="1584360" cy="145800"/>
              <a:chOff x="1979640" y="3498840"/>
              <a:chExt cx="1584360" cy="145800"/>
            </a:xfrm>
          </p:grpSpPr>
          <p:sp>
            <p:nvSpPr>
              <p:cNvPr id="310" name=""/>
              <p:cNvSpPr/>
              <p:nvPr/>
            </p:nvSpPr>
            <p:spPr>
              <a:xfrm>
                <a:off x="2484360" y="3498840"/>
                <a:ext cx="35892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89080" y="3498840"/>
                <a:ext cx="2160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979640" y="3498840"/>
                <a:ext cx="1584360" cy="145800"/>
                <a:chOff x="1979640" y="3498840"/>
                <a:chExt cx="1584360" cy="145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979640" y="3498840"/>
                  <a:ext cx="360360" cy="14292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2193840" y="3502080"/>
                  <a:ext cx="1370160" cy="142560"/>
                  <a:chOff x="2193840" y="3502080"/>
                  <a:chExt cx="1370160" cy="142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348000" y="3502080"/>
                    <a:ext cx="216000" cy="142560"/>
                  </a:xfrm>
                  <a:prstGeom prst="rect">
                    <a:avLst/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93840" y="3573360"/>
                    <a:ext cx="1225800" cy="0"/>
                  </a:xfrm>
                  <a:prstGeom prst="line">
                    <a:avLst/>
                  </a:prstGeom>
                  <a:ln w="381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17" name=""/>
            <p:cNvSpPr/>
            <p:nvPr/>
          </p:nvSpPr>
          <p:spPr>
            <a:xfrm>
              <a:off x="3780000" y="3214800"/>
              <a:ext cx="36036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32360" y="3213000"/>
              <a:ext cx="503280" cy="3970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72000" y="3214800"/>
              <a:ext cx="28728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48000" y="3214800"/>
              <a:ext cx="19368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960560" y="5157720"/>
            <a:ext cx="4932360" cy="914400"/>
            <a:chOff x="1960560" y="5157720"/>
            <a:chExt cx="4932360" cy="914400"/>
          </a:xfrm>
        </p:grpSpPr>
        <p:sp>
          <p:nvSpPr>
            <p:cNvPr id="322" name=""/>
            <p:cNvSpPr/>
            <p:nvPr/>
          </p:nvSpPr>
          <p:spPr>
            <a:xfrm>
              <a:off x="1960560" y="5567400"/>
              <a:ext cx="4932360" cy="504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08720" y="5443560"/>
              <a:ext cx="1225440" cy="142920"/>
              <a:chOff x="5508720" y="5443560"/>
              <a:chExt cx="1225440" cy="142920"/>
            </a:xfrm>
          </p:grpSpPr>
          <p:sp>
            <p:nvSpPr>
              <p:cNvPr id="324" name=""/>
              <p:cNvSpPr/>
              <p:nvPr/>
            </p:nvSpPr>
            <p:spPr>
              <a:xfrm>
                <a:off x="5508720" y="5443560"/>
                <a:ext cx="3600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3440" y="5443560"/>
                <a:ext cx="3582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18160" y="5443560"/>
                <a:ext cx="21564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508720" y="5515200"/>
                <a:ext cx="122544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1979640" y="5443560"/>
              <a:ext cx="1584360" cy="145800"/>
              <a:chOff x="1979640" y="5443560"/>
              <a:chExt cx="1584360" cy="145800"/>
            </a:xfrm>
          </p:grpSpPr>
          <p:sp>
            <p:nvSpPr>
              <p:cNvPr id="329" name=""/>
              <p:cNvSpPr/>
              <p:nvPr/>
            </p:nvSpPr>
            <p:spPr>
              <a:xfrm>
                <a:off x="2484360" y="5443560"/>
                <a:ext cx="35892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89080" y="5443560"/>
                <a:ext cx="216000" cy="1429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79640" y="5443560"/>
                <a:ext cx="1584360" cy="145800"/>
                <a:chOff x="1979640" y="5443560"/>
                <a:chExt cx="1584360" cy="1458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79640" y="5443560"/>
                  <a:ext cx="360360" cy="14292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2193840" y="5446800"/>
                  <a:ext cx="1370160" cy="142560"/>
                  <a:chOff x="2193840" y="5446800"/>
                  <a:chExt cx="1370160" cy="14256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3348000" y="5446800"/>
                    <a:ext cx="216000" cy="142560"/>
                  </a:xfrm>
                  <a:prstGeom prst="rect">
                    <a:avLst/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93840" y="5518080"/>
                    <a:ext cx="1225800" cy="0"/>
                  </a:xfrm>
                  <a:prstGeom prst="line">
                    <a:avLst/>
                  </a:prstGeom>
                  <a:ln w="381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6" name=""/>
            <p:cNvSpPr/>
            <p:nvPr/>
          </p:nvSpPr>
          <p:spPr>
            <a:xfrm>
              <a:off x="3780000" y="5159520"/>
              <a:ext cx="36036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32360" y="5157720"/>
              <a:ext cx="503280" cy="3970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72000" y="5159520"/>
              <a:ext cx="28728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8000" y="5159520"/>
              <a:ext cx="193680" cy="396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51280" y="5373720"/>
              <a:ext cx="1297080" cy="0"/>
            </a:xfrm>
            <a:prstGeom prst="line">
              <a:avLst/>
            </a:prstGeom>
            <a:ln w="572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= species-specific cDNA and EST sequenc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Sequences aligned to genome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onera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ranscript structures predicted for ES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criptCoalescer collapses down EST alignmen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cDNA and EST alignmen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4D3-379D-4E02-85AC-E27550C3A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0" y="3643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= Coding transcript models + cDNA alignment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UTR is added where possibl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TRBuild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DNA alignments are compared against transcript structures from Targetted and Similarity step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mproving UTR structur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d to look for Methionine &amp; Stop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tag dat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UTR additi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A0A8-48F6-4337-8CB4-BD85633D5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407196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UTR additi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6C2D-FB79-4D38-8E53-F1137DB8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0" y="407196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60560" y="5348160"/>
            <a:ext cx="4932360" cy="50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700360" y="4941720"/>
            <a:ext cx="3959280" cy="397080"/>
            <a:chOff x="2700360" y="4941720"/>
            <a:chExt cx="3959280" cy="397080"/>
          </a:xfrm>
        </p:grpSpPr>
        <p:sp>
          <p:nvSpPr>
            <p:cNvPr id="357" name=""/>
            <p:cNvSpPr/>
            <p:nvPr/>
          </p:nvSpPr>
          <p:spPr>
            <a:xfrm>
              <a:off x="2700360" y="4941720"/>
              <a:ext cx="42372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08720" y="4941720"/>
              <a:ext cx="48420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32280" y="4941720"/>
              <a:ext cx="83664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48000" y="5081760"/>
              <a:ext cx="59544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8000" y="508176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45080" y="4941720"/>
              <a:ext cx="21456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24360" y="508176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968560" y="4941720"/>
              <a:ext cx="3024360" cy="396720"/>
              <a:chOff x="2968560" y="4941720"/>
              <a:chExt cx="3024360" cy="396720"/>
            </a:xfrm>
          </p:grpSpPr>
          <p:sp>
            <p:nvSpPr>
              <p:cNvPr id="365" name=""/>
              <p:cNvSpPr/>
              <p:nvPr/>
            </p:nvSpPr>
            <p:spPr>
              <a:xfrm>
                <a:off x="2968560" y="4941720"/>
                <a:ext cx="36036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89640" y="4941720"/>
                <a:ext cx="50328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13200" y="4941720"/>
                <a:ext cx="86364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28920" y="5081400"/>
                <a:ext cx="59544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8920" y="5081400"/>
                <a:ext cx="72072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979640" y="3068640"/>
            <a:ext cx="4932360" cy="50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987640" y="2662200"/>
            <a:ext cx="3024360" cy="396720"/>
            <a:chOff x="2987640" y="2662200"/>
            <a:chExt cx="3024360" cy="396720"/>
          </a:xfrm>
        </p:grpSpPr>
        <p:sp>
          <p:nvSpPr>
            <p:cNvPr id="372" name=""/>
            <p:cNvSpPr/>
            <p:nvPr/>
          </p:nvSpPr>
          <p:spPr>
            <a:xfrm>
              <a:off x="2987640" y="2662200"/>
              <a:ext cx="36036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08720" y="2662200"/>
              <a:ext cx="50328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2280" y="2662200"/>
              <a:ext cx="86364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48000" y="2801880"/>
              <a:ext cx="595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88000" y="2801880"/>
              <a:ext cx="72072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284720" y="386388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00720" y="3863880"/>
            <a:ext cx="18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UTR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700360" y="1773360"/>
            <a:ext cx="3959280" cy="396720"/>
            <a:chOff x="2700360" y="1773360"/>
            <a:chExt cx="3959280" cy="396720"/>
          </a:xfrm>
        </p:grpSpPr>
        <p:sp>
          <p:nvSpPr>
            <p:cNvPr id="380" name=""/>
            <p:cNvSpPr/>
            <p:nvPr/>
          </p:nvSpPr>
          <p:spPr>
            <a:xfrm>
              <a:off x="2700360" y="1773360"/>
              <a:ext cx="64764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8720" y="1773360"/>
              <a:ext cx="50328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32280" y="1773360"/>
              <a:ext cx="863640" cy="3373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D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48000" y="1913040"/>
              <a:ext cx="59544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88000" y="191304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45080" y="1773360"/>
              <a:ext cx="21456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24360" y="191304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11640" y="2276640"/>
            <a:ext cx="216000" cy="215640"/>
            <a:chOff x="4211640" y="2276640"/>
            <a:chExt cx="216000" cy="215640"/>
          </a:xfrm>
        </p:grpSpPr>
        <p:sp>
          <p:nvSpPr>
            <p:cNvPr id="388" name=""/>
            <p:cNvSpPr/>
            <p:nvPr/>
          </p:nvSpPr>
          <p:spPr>
            <a:xfrm>
              <a:off x="4319640" y="227664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211640" y="23842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= Transcript models with UT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ranscript models (with UTR) are collapsed down to produce gene models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Build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We now have multiple Transcripts per Gen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GeneBuild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1F00-9E3A-4553-AFB4-35FAEAD67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44290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GeneBuild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5E5A-240E-421D-BFEF-D1BBA9D7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44290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60560" y="2995560"/>
            <a:ext cx="4932360" cy="50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700360" y="2589120"/>
            <a:ext cx="3959280" cy="397080"/>
            <a:chOff x="2700360" y="2589120"/>
            <a:chExt cx="3959280" cy="397080"/>
          </a:xfrm>
        </p:grpSpPr>
        <p:sp>
          <p:nvSpPr>
            <p:cNvPr id="401" name=""/>
            <p:cNvSpPr/>
            <p:nvPr/>
          </p:nvSpPr>
          <p:spPr>
            <a:xfrm>
              <a:off x="2700360" y="2589120"/>
              <a:ext cx="42372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08720" y="2589120"/>
              <a:ext cx="48420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32280" y="2589120"/>
              <a:ext cx="83664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48000" y="2729160"/>
              <a:ext cx="59544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88000" y="272916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45080" y="2589120"/>
              <a:ext cx="21456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24360" y="272916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2968560" y="2589120"/>
              <a:ext cx="3024360" cy="396720"/>
              <a:chOff x="2968560" y="2589120"/>
              <a:chExt cx="3024360" cy="396720"/>
            </a:xfrm>
          </p:grpSpPr>
          <p:sp>
            <p:nvSpPr>
              <p:cNvPr id="409" name=""/>
              <p:cNvSpPr/>
              <p:nvPr/>
            </p:nvSpPr>
            <p:spPr>
              <a:xfrm>
                <a:off x="2968560" y="2589120"/>
                <a:ext cx="36036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489640" y="2589120"/>
                <a:ext cx="50328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13200" y="2589120"/>
                <a:ext cx="86364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328920" y="2728800"/>
                <a:ext cx="59544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68920" y="2728800"/>
                <a:ext cx="72072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2700360" y="2060640"/>
            <a:ext cx="423720" cy="396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32280" y="2060640"/>
            <a:ext cx="836640" cy="396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48000" y="2200320"/>
            <a:ext cx="595440" cy="842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68560" y="2060640"/>
            <a:ext cx="360360" cy="39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13200" y="2060640"/>
            <a:ext cx="863640" cy="39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28920" y="2200320"/>
            <a:ext cx="595440" cy="8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700360" y="1555920"/>
            <a:ext cx="3959280" cy="396720"/>
            <a:chOff x="2700360" y="1555920"/>
            <a:chExt cx="3959280" cy="396720"/>
          </a:xfrm>
        </p:grpSpPr>
        <p:sp>
          <p:nvSpPr>
            <p:cNvPr id="421" name=""/>
            <p:cNvSpPr/>
            <p:nvPr/>
          </p:nvSpPr>
          <p:spPr>
            <a:xfrm>
              <a:off x="2700360" y="1555920"/>
              <a:ext cx="42372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08720" y="1555920"/>
              <a:ext cx="48420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48000" y="1695600"/>
              <a:ext cx="59544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88000" y="1695600"/>
              <a:ext cx="72072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45080" y="1555920"/>
              <a:ext cx="21456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24360" y="1695600"/>
              <a:ext cx="72072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68560" y="1555920"/>
              <a:ext cx="36036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9640" y="1555920"/>
              <a:ext cx="50328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13200" y="1555920"/>
              <a:ext cx="21600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28920" y="1695600"/>
              <a:ext cx="595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13200" y="1695600"/>
              <a:ext cx="1576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67160" y="1555920"/>
              <a:ext cx="49212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979640" y="5445000"/>
            <a:ext cx="4932360" cy="50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719440" y="5038560"/>
            <a:ext cx="3959280" cy="397080"/>
            <a:chOff x="2719440" y="5038560"/>
            <a:chExt cx="3959280" cy="397080"/>
          </a:xfrm>
        </p:grpSpPr>
        <p:sp>
          <p:nvSpPr>
            <p:cNvPr id="435" name=""/>
            <p:cNvSpPr/>
            <p:nvPr/>
          </p:nvSpPr>
          <p:spPr>
            <a:xfrm>
              <a:off x="2719440" y="5038560"/>
              <a:ext cx="42372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27800" y="5038560"/>
              <a:ext cx="48420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51360" y="5038560"/>
              <a:ext cx="83664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67080" y="5178600"/>
              <a:ext cx="59544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7080" y="517860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64160" y="5038560"/>
              <a:ext cx="214560" cy="397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43440" y="5178600"/>
              <a:ext cx="720720" cy="83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987640" y="5038560"/>
              <a:ext cx="3024360" cy="396720"/>
              <a:chOff x="2987640" y="5038560"/>
              <a:chExt cx="3024360" cy="396720"/>
            </a:xfrm>
          </p:grpSpPr>
          <p:sp>
            <p:nvSpPr>
              <p:cNvPr id="443" name=""/>
              <p:cNvSpPr/>
              <p:nvPr/>
            </p:nvSpPr>
            <p:spPr>
              <a:xfrm>
                <a:off x="2987640" y="5038560"/>
                <a:ext cx="36036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08720" y="5038560"/>
                <a:ext cx="50328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932280" y="5038560"/>
                <a:ext cx="863640" cy="396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348000" y="5178240"/>
                <a:ext cx="59544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88000" y="5178240"/>
                <a:ext cx="720720" cy="84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2719440" y="4471920"/>
            <a:ext cx="3959280" cy="396720"/>
            <a:chOff x="2719440" y="4471920"/>
            <a:chExt cx="3959280" cy="396720"/>
          </a:xfrm>
        </p:grpSpPr>
        <p:sp>
          <p:nvSpPr>
            <p:cNvPr id="449" name=""/>
            <p:cNvSpPr/>
            <p:nvPr/>
          </p:nvSpPr>
          <p:spPr>
            <a:xfrm>
              <a:off x="2719440" y="4471920"/>
              <a:ext cx="42372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7800" y="4471920"/>
              <a:ext cx="48420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67080" y="4611600"/>
              <a:ext cx="59544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07080" y="4611600"/>
              <a:ext cx="72072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4160" y="4471920"/>
              <a:ext cx="214560" cy="3967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43440" y="4611600"/>
              <a:ext cx="720720" cy="8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7640" y="4471920"/>
              <a:ext cx="36036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8720" y="4471920"/>
              <a:ext cx="50328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32280" y="4471920"/>
              <a:ext cx="21600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48000" y="4611600"/>
              <a:ext cx="595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2280" y="4611600"/>
              <a:ext cx="1576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86240" y="4471920"/>
              <a:ext cx="49212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284720" y="3789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00720" y="3789360"/>
            <a:ext cx="18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Gene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42360" y="1844640"/>
            <a:ext cx="142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ve redundant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4776840" y="2284560"/>
            <a:ext cx="27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seudogen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Protein annota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prot: Prints, PrositePatterns, PrositeProfiles, Pfam, Tigerfam, Smart, Superfamily, Pirsf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: Seq, SignalP, Ncoils, Tmhm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Assign xrefs: Cross-reference models to external databas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CDS, RefSeq, Unipro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ncRNA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Post-genebuild processi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8F5A-44D1-4903-9BED-8221254C9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492912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pipelin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8501040" y="5929200"/>
            <a:ext cx="64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E166-0E5A-405E-841D-26B2FB2C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Arial"/>
              </a:rPr>
              <a:t>Topics covered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e schem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 contro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nables and RunnableDB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gs and rul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ID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s on the far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manag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pipelin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EEE3-DEAC-4768-AB39-C9470509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nsembl genebuil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nsembl pipelin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501040" y="5929200"/>
            <a:ext cx="64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532A-94FE-4C96-8DDE-97B7DF84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nsembl core schem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SQL (MyISAM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tabl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PI to access dat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form method of access to the dat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ated Perl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s-controlled repositories :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eg. Bio::EnsEMBL::Object.pm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-pipelin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eg. Bio::EnsEMBL::Pipeline::Job.pm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-analysi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eg. Bio::EnsEMBL::Analysis::Runnable::Blast.pm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re schem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E1AE-858A-416B-920B-60A99A04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0" y="19288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re schem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DADC-A0D1-4B74-B665-BB4062738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0" y="19288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476360" y="1484280"/>
            <a:ext cx="3960720" cy="1776240"/>
            <a:chOff x="1476360" y="1484280"/>
            <a:chExt cx="3960720" cy="1776240"/>
          </a:xfrm>
        </p:grpSpPr>
        <p:sp>
          <p:nvSpPr>
            <p:cNvPr id="488" name=""/>
            <p:cNvSpPr/>
            <p:nvPr/>
          </p:nvSpPr>
          <p:spPr>
            <a:xfrm>
              <a:off x="1476360" y="1484280"/>
              <a:ext cx="3960720" cy="28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 (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io::EnsEMBL::Gen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76360" y="1773720"/>
              <a:ext cx="1980360" cy="1486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sis_i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r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56720" y="1773720"/>
              <a:ext cx="1980360" cy="1486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ted_genew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in_co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476360" y="3881520"/>
            <a:ext cx="3960720" cy="2068200"/>
            <a:chOff x="1476360" y="3881520"/>
            <a:chExt cx="3960720" cy="2068200"/>
          </a:xfrm>
        </p:grpSpPr>
        <p:sp>
          <p:nvSpPr>
            <p:cNvPr id="492" name=""/>
            <p:cNvSpPr/>
            <p:nvPr/>
          </p:nvSpPr>
          <p:spPr>
            <a:xfrm>
              <a:off x="1476360" y="3881520"/>
              <a:ext cx="39607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cript (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io::EnsEMBL::Transcrip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76360" y="4218840"/>
              <a:ext cx="1980360" cy="173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cript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sis_i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r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56720" y="4218840"/>
              <a:ext cx="1980360" cy="173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8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ted_genew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tein_co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457440" y="326088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57440" y="32130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92360" y="36590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688000" y="2421000"/>
            <a:ext cx="3348000" cy="1619280"/>
            <a:chOff x="5688000" y="2421000"/>
            <a:chExt cx="3348000" cy="1619280"/>
          </a:xfrm>
        </p:grpSpPr>
        <p:sp>
          <p:nvSpPr>
            <p:cNvPr id="499" name=""/>
            <p:cNvSpPr/>
            <p:nvPr/>
          </p:nvSpPr>
          <p:spPr>
            <a:xfrm>
              <a:off x="5688000" y="2421000"/>
              <a:ext cx="3348000" cy="288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on (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io::EnsEMBL::Ex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88000" y="2709720"/>
              <a:ext cx="2112840" cy="1330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on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_region_str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99400" y="2709720"/>
              <a:ext cx="1236600" cy="1330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6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5437080" y="4724280"/>
            <a:ext cx="58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64000" y="44496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97440" y="472428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019920" y="4562640"/>
            <a:ext cx="2609640" cy="870840"/>
            <a:chOff x="6019920" y="4562640"/>
            <a:chExt cx="2609640" cy="870840"/>
          </a:xfrm>
        </p:grpSpPr>
        <p:sp>
          <p:nvSpPr>
            <p:cNvPr id="506" name=""/>
            <p:cNvSpPr/>
            <p:nvPr/>
          </p:nvSpPr>
          <p:spPr>
            <a:xfrm>
              <a:off x="6019920" y="4562640"/>
              <a:ext cx="2609640" cy="286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on_transcri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849560"/>
              <a:ext cx="1674360" cy="58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cript_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on_i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92840" y="4849560"/>
              <a:ext cx="936360" cy="58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8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6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7129440" y="40514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29440" y="40035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64360" y="4292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835280" y="1620720"/>
            <a:ext cx="6694200" cy="728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35280" y="2492280"/>
            <a:ext cx="6694200" cy="343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alysi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ules: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le_condit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le_goa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put_ids: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_id_analysi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_id_type_analysi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ob-tracking tables: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b_statu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Pipeline schem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96F5-F6C9-414E-9B07-5D1801155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22860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48440" y="166356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156360" y="2502000"/>
            <a:ext cx="144360" cy="3232080"/>
          </a:xfrm>
          <a:custGeom>
            <a:avLst/>
            <a:gdLst>
              <a:gd name="textAreaLeft" fmla="*/ 0 w 144360"/>
              <a:gd name="textAreaRight" fmla="*/ 52200 w 144360"/>
              <a:gd name="textAreaTop" fmla="*/ 84240 h 3232080"/>
              <a:gd name="textAreaBottom" fmla="*/ 3147840 h 32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300720" y="1828800"/>
            <a:ext cx="23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nsembl/sql/table.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300720" y="3946680"/>
            <a:ext cx="23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nsembl-pipeline/sql/table.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. Run RepeatMasker across the genom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g. Run Genscan across the genom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o run an analysis we need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to run eg. RepeatMask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able and RunnableDB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and condition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nput ... input_ids !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nalys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A1CB-EC5B-4DF1-A608-DBF97479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264312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Runnables and RunnableDB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F96A-AE02-4460-AB87-563DCC6B2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0" y="30718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23"/>
          <p:cNvCxnSpPr/>
          <p:nvPr/>
        </p:nvCxnSpPr>
        <p:spPr>
          <a:xfrm>
            <a:off x="3285720" y="2786040"/>
            <a:ext cx="7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533" name="Group 28"/>
          <p:cNvGrpSpPr/>
          <p:nvPr/>
        </p:nvGrpSpPr>
        <p:grpSpPr>
          <a:xfrm>
            <a:off x="1500120" y="2500200"/>
            <a:ext cx="1785960" cy="857520"/>
            <a:chOff x="1500120" y="2500200"/>
            <a:chExt cx="1785960" cy="857520"/>
          </a:xfrm>
        </p:grpSpPr>
        <p:sp>
          <p:nvSpPr>
            <p:cNvPr id="534" name="Rectangle 7"/>
            <p:cNvSpPr/>
            <p:nvPr/>
          </p:nvSpPr>
          <p:spPr>
            <a:xfrm>
              <a:off x="1500120" y="2500200"/>
              <a:ext cx="1785960" cy="857520"/>
            </a:xfrm>
            <a:prstGeom prst="rect">
              <a:avLst/>
            </a:prstGeom>
            <a:solidFill>
              <a:srgbClr val="cc00c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7"/>
            <p:cNvSpPr/>
            <p:nvPr/>
          </p:nvSpPr>
          <p:spPr>
            <a:xfrm>
              <a:off x="1714320" y="2714400"/>
              <a:ext cx="135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4000680" y="2500200"/>
            <a:ext cx="5072040" cy="32860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4071960" y="25718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nable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4643280" y="3143160"/>
            <a:ext cx="3429000" cy="192888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4714920" y="31719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n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5214960" y="3643200"/>
            <a:ext cx="221472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9"/>
          <p:cNvSpPr/>
          <p:nvPr/>
        </p:nvSpPr>
        <p:spPr>
          <a:xfrm>
            <a:off x="5357880" y="37861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atMas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unnableD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sequence from the databas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s data to Runnabl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output from Runnabl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s output to d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unnable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per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tand-alone from the d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s data from RunnableD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s data to Module eg. Exonera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es outpu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output and creates ensembl-objec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s output to RunnableDB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Runnables and RunnableDB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8734-440A-42BC-B25B-2C3B88B6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0" y="30718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figuration files: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configuratio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al.pm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control configuration in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-config/human/GRCh37/Bio/Ensembl/Pipe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fig/BatchQueue.p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-specific configuration i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embl-config/human/GRCh37/Bio/Ensembl/Analysi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fig/Blast.p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ables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le_go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le_condition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mmy analysis for submiss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or from previous analysi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figs and rul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13EA-E917-4274-9400-FC7C67711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0" y="3643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figs and rul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CE69-2AF5-497E-9CC6-53D10E2AB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0" y="3643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763640" y="3875040"/>
            <a:ext cx="2519280" cy="1053720"/>
            <a:chOff x="1763640" y="3875040"/>
            <a:chExt cx="2519280" cy="1053720"/>
          </a:xfrm>
        </p:grpSpPr>
        <p:sp>
          <p:nvSpPr>
            <p:cNvPr id="557" name=""/>
            <p:cNvSpPr/>
            <p:nvPr/>
          </p:nvSpPr>
          <p:spPr>
            <a:xfrm>
              <a:off x="1763640" y="3875040"/>
              <a:ext cx="2519280" cy="33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ule_go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63640" y="4221000"/>
              <a:ext cx="1215720" cy="707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79360" y="4221000"/>
              <a:ext cx="1303200" cy="7077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940360" y="3875040"/>
            <a:ext cx="2879640" cy="1424160"/>
            <a:chOff x="5940360" y="3875040"/>
            <a:chExt cx="2879640" cy="1424160"/>
          </a:xfrm>
        </p:grpSpPr>
        <p:sp>
          <p:nvSpPr>
            <p:cNvPr id="561" name=""/>
            <p:cNvSpPr/>
            <p:nvPr/>
          </p:nvSpPr>
          <p:spPr>
            <a:xfrm>
              <a:off x="5940360" y="3875040"/>
              <a:ext cx="287964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ule_condi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40360" y="4221000"/>
              <a:ext cx="1216080" cy="107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al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56440" y="4221000"/>
              <a:ext cx="1663560" cy="107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mit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mit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eatMas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763640" y="1628640"/>
            <a:ext cx="2952720" cy="1424520"/>
            <a:chOff x="1763640" y="1628640"/>
            <a:chExt cx="2952720" cy="1424520"/>
          </a:xfrm>
        </p:grpSpPr>
        <p:sp>
          <p:nvSpPr>
            <p:cNvPr id="565" name=""/>
            <p:cNvSpPr/>
            <p:nvPr/>
          </p:nvSpPr>
          <p:spPr>
            <a:xfrm>
              <a:off x="1763640" y="1628640"/>
              <a:ext cx="29527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63640" y="1974960"/>
              <a:ext cx="1216080" cy="1078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79720" y="1974960"/>
              <a:ext cx="1736640" cy="1078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mit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eatMask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sc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979720" y="305424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2920" y="4437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79720" y="306864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87640" y="359712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82920" y="410040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72080" y="40528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figs and rul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DFD4-FB41-4ED2-A6FA-9F35008C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3643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92360" y="2349360"/>
            <a:ext cx="2952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92360" y="2695680"/>
            <a:ext cx="1216080" cy="181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08440" y="2695680"/>
            <a:ext cx="1736640" cy="181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tCon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Mas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atch_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P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4200" y="2349360"/>
            <a:ext cx="3025800" cy="2165400"/>
            <a:chOff x="5794200" y="2349360"/>
            <a:chExt cx="3025800" cy="2165400"/>
          </a:xfrm>
        </p:grpSpPr>
        <p:sp>
          <p:nvSpPr>
            <p:cNvPr id="582" name=""/>
            <p:cNvSpPr/>
            <p:nvPr/>
          </p:nvSpPr>
          <p:spPr>
            <a:xfrm>
              <a:off x="5794200" y="2349360"/>
              <a:ext cx="3025800" cy="33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_id_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94200" y="2695680"/>
              <a:ext cx="1216080" cy="18190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10280" y="2695680"/>
              <a:ext cx="1809720" cy="18190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CUMU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4645080" y="35258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35360" y="318924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72080" y="321300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Input ID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9AE5-4357-4A49-9A1B-2B551C80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0" y="40798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763640" y="3573360"/>
            <a:ext cx="2952360" cy="1424160"/>
            <a:chOff x="1763640" y="3573360"/>
            <a:chExt cx="2952360" cy="1424160"/>
          </a:xfrm>
        </p:grpSpPr>
        <p:sp>
          <p:nvSpPr>
            <p:cNvPr id="593" name=""/>
            <p:cNvSpPr/>
            <p:nvPr/>
          </p:nvSpPr>
          <p:spPr>
            <a:xfrm>
              <a:off x="1763640" y="3573360"/>
              <a:ext cx="295236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_id_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63640" y="3919320"/>
              <a:ext cx="14248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88520" y="3919320"/>
              <a:ext cx="15274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154560" y="3573360"/>
            <a:ext cx="2521080" cy="2518200"/>
            <a:chOff x="6154560" y="3573360"/>
            <a:chExt cx="2521080" cy="2518200"/>
          </a:xfrm>
        </p:grpSpPr>
        <p:sp>
          <p:nvSpPr>
            <p:cNvPr id="597" name=""/>
            <p:cNvSpPr/>
            <p:nvPr/>
          </p:nvSpPr>
          <p:spPr>
            <a:xfrm>
              <a:off x="6156360" y="3573360"/>
              <a:ext cx="251928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_id_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56360" y="391932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72440" y="3919320"/>
              <a:ext cx="130320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54560" y="501336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70640" y="5013360"/>
              <a:ext cx="130356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924440" y="4221000"/>
            <a:ext cx="1015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53160" y="3740040"/>
            <a:ext cx="13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en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63640" y="1628640"/>
            <a:ext cx="295272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63640" y="1974960"/>
            <a:ext cx="1216080" cy="107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79720" y="1974960"/>
            <a:ext cx="1736640" cy="107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tCon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Mas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79720" y="306864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90640" y="3308400"/>
            <a:ext cx="36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8764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genebuil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8501040" y="5929200"/>
            <a:ext cx="64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1C3D-3F28-4BF7-9873-4810BF30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put_id for every jo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bles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put_id_analysis and input_id_type_analysi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Input typ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eg. Chromosome, Contig, Slic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ffold:gorGor1:Scaffold_1000:1:65750:1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e eg. Fasta chunk of 100 cDNA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racking job run status 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b_st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les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Input ID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AB14-AF4D-44FD-8CD6-899C7AF2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40798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Jobs on the farm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FDE2-AAF3-4C6F-8F94-3476F7E1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2"/>
          <p:cNvSpPr/>
          <p:nvPr/>
        </p:nvSpPr>
        <p:spPr>
          <a:xfrm>
            <a:off x="0" y="44290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690560" y="1600200"/>
            <a:ext cx="2521080" cy="3554640"/>
            <a:chOff x="1690560" y="1600200"/>
            <a:chExt cx="2521080" cy="3554640"/>
          </a:xfrm>
        </p:grpSpPr>
        <p:sp>
          <p:nvSpPr>
            <p:cNvPr id="620" name=""/>
            <p:cNvSpPr/>
            <p:nvPr/>
          </p:nvSpPr>
          <p:spPr>
            <a:xfrm>
              <a:off x="1692360" y="1600200"/>
              <a:ext cx="2519280" cy="337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put_id_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92360" y="194616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08440" y="1946160"/>
              <a:ext cx="130320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90560" y="304020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906640" y="3040200"/>
              <a:ext cx="130356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92360" y="4076640"/>
              <a:ext cx="121608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08440" y="4076640"/>
              <a:ext cx="1303200" cy="1078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076720" y="1484280"/>
            <a:ext cx="3738600" cy="2104920"/>
            <a:chOff x="5076720" y="1484280"/>
            <a:chExt cx="3738600" cy="2104920"/>
          </a:xfrm>
        </p:grpSpPr>
        <p:sp>
          <p:nvSpPr>
            <p:cNvPr id="628" name=""/>
            <p:cNvSpPr/>
            <p:nvPr/>
          </p:nvSpPr>
          <p:spPr>
            <a:xfrm>
              <a:off x="5078520" y="1484280"/>
              <a:ext cx="3736800" cy="337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78520" y="1830240"/>
              <a:ext cx="1216080" cy="107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76720" y="2881440"/>
              <a:ext cx="1216080" cy="707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b_id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94600" y="1844640"/>
              <a:ext cx="1215720" cy="107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10320" y="1844640"/>
              <a:ext cx="1303560" cy="1078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96040" y="2881440"/>
              <a:ext cx="1216080" cy="707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12120" y="2881440"/>
              <a:ext cx="1303200" cy="707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_i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081760" y="4076640"/>
            <a:ext cx="373680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_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081760" y="4422600"/>
            <a:ext cx="1215720" cy="144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_i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_i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_i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_i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297480" y="4430880"/>
            <a:ext cx="1216080" cy="144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513560" y="4430880"/>
            <a:ext cx="1303560" cy="144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_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_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11640" y="2276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40360" y="1916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59280" y="1916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435720" y="357336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724800" y="381312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724800" y="359424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ables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ck every input_id (job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b and job_status tabl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Status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nding, Reading, Running, Writing, AWO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is_current fla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Jobs on the farm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45F2-913F-485E-9613-31968CB7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2"/>
          <p:cNvSpPr/>
          <p:nvPr/>
        </p:nvSpPr>
        <p:spPr>
          <a:xfrm>
            <a:off x="0" y="442908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Jobs on the farm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AED9-6300-4F71-9D1E-60C057196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3651480" y="22431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6558840" y="478152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y if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3493440" y="3435480"/>
            <a:ext cx="13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put_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3224520" y="478620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on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997000" y="5786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result to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1440000" y="2427120"/>
            <a:ext cx="155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0"/>
          <p:cNvSpPr/>
          <p:nvPr/>
        </p:nvSpPr>
        <p:spPr>
          <a:xfrm>
            <a:off x="5807160" y="5219640"/>
            <a:ext cx="1371600" cy="10670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864" h="672">
                <a:moveTo>
                  <a:pt x="0" y="672"/>
                </a:moveTo>
                <a:cubicBezTo>
                  <a:pt x="288" y="608"/>
                  <a:pt x="576" y="544"/>
                  <a:pt x="720" y="432"/>
                </a:cubicBezTo>
                <a:cubicBezTo>
                  <a:pt x="864" y="320"/>
                  <a:pt x="864" y="160"/>
                  <a:pt x="86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1"/>
          <p:cNvSpPr/>
          <p:nvPr/>
        </p:nvSpPr>
        <p:spPr>
          <a:xfrm>
            <a:off x="4968720" y="3606840"/>
            <a:ext cx="2210040" cy="118116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392" h="744">
                <a:moveTo>
                  <a:pt x="1392" y="744"/>
                </a:moveTo>
                <a:cubicBezTo>
                  <a:pt x="1340" y="492"/>
                  <a:pt x="1288" y="240"/>
                  <a:pt x="1056" y="120"/>
                </a:cubicBezTo>
                <a:cubicBezTo>
                  <a:pt x="824" y="0"/>
                  <a:pt x="412" y="12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2"/>
          <p:cNvSpPr/>
          <p:nvPr/>
        </p:nvSpPr>
        <p:spPr>
          <a:xfrm>
            <a:off x="4054320" y="281952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3"/>
          <p:cNvSpPr/>
          <p:nvPr/>
        </p:nvSpPr>
        <p:spPr>
          <a:xfrm>
            <a:off x="4054320" y="514368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4"/>
          <p:cNvSpPr/>
          <p:nvPr/>
        </p:nvSpPr>
        <p:spPr>
          <a:xfrm>
            <a:off x="4054320" y="4178160"/>
            <a:ext cx="152640" cy="609840"/>
          </a:xfrm>
          <a:prstGeom prst="downArrow">
            <a:avLst>
              <a:gd name="adj1" fmla="val 50000"/>
              <a:gd name="adj2" fmla="val 99882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5"/>
          <p:cNvSpPr/>
          <p:nvPr/>
        </p:nvSpPr>
        <p:spPr>
          <a:xfrm>
            <a:off x="2682720" y="2638440"/>
            <a:ext cx="1371600" cy="304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864" h="192">
                <a:moveTo>
                  <a:pt x="0" y="0"/>
                </a:moveTo>
                <a:cubicBezTo>
                  <a:pt x="264" y="8"/>
                  <a:pt x="528" y="16"/>
                  <a:pt x="672" y="48"/>
                </a:cubicBezTo>
                <a:cubicBezTo>
                  <a:pt x="816" y="80"/>
                  <a:pt x="840" y="136"/>
                  <a:pt x="864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6"/>
          <p:cNvSpPr/>
          <p:nvPr/>
        </p:nvSpPr>
        <p:spPr>
          <a:xfrm flipH="1">
            <a:off x="4206960" y="2638440"/>
            <a:ext cx="1371600" cy="30492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864" h="192">
                <a:moveTo>
                  <a:pt x="0" y="0"/>
                </a:moveTo>
                <a:cubicBezTo>
                  <a:pt x="264" y="8"/>
                  <a:pt x="528" y="16"/>
                  <a:pt x="672" y="48"/>
                </a:cubicBezTo>
                <a:cubicBezTo>
                  <a:pt x="816" y="80"/>
                  <a:pt x="840" y="136"/>
                  <a:pt x="864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2343240" y="1386000"/>
            <a:ext cx="57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mitContig (Dummy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8"/>
          <p:cNvSpPr/>
          <p:nvPr/>
        </p:nvSpPr>
        <p:spPr>
          <a:xfrm>
            <a:off x="4059360" y="17478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2"/>
          <p:cNvSpPr/>
          <p:nvPr/>
        </p:nvSpPr>
        <p:spPr>
          <a:xfrm>
            <a:off x="0" y="450072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Rulemanag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9E52-9D38-43C3-85E9-38795B9C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2152800" y="3124080"/>
            <a:ext cx="67053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oreach input_id_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oreach input_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un job i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_type eq input_id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 conditions are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is not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is failed and can be retr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ch size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2122560" y="1800360"/>
            <a:ext cx="5807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et_up_pipe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all rules and input_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y input_ids list according to comman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 rot="16200000">
            <a:off x="1126440" y="198180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 rot="16200000">
            <a:off x="371520" y="4441680"/>
            <a:ext cx="27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init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0" y="478620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2"/>
          <p:cNvSpPr/>
          <p:nvPr/>
        </p:nvSpPr>
        <p:spPr>
          <a:xfrm>
            <a:off x="1571760" y="1643040"/>
            <a:ext cx="6286320" cy="1357200"/>
          </a:xfrm>
          <a:prstGeom prst="rect">
            <a:avLst/>
          </a:prstGeom>
          <a:solidFill>
            <a:srgbClr val="ff33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3"/>
          <p:cNvSpPr/>
          <p:nvPr/>
        </p:nvSpPr>
        <p:spPr>
          <a:xfrm>
            <a:off x="1571760" y="3071880"/>
            <a:ext cx="6286320" cy="2857320"/>
          </a:xfrm>
          <a:prstGeom prst="rect">
            <a:avLst/>
          </a:prstGeom>
          <a:solidFill>
            <a:srgbClr val="ff33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12720" y="1079280"/>
            <a:ext cx="79185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anks to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ve Searl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mon Whi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usan Fairley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monida Zadiss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Amy Tan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Magali Ruffi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8501040" y="5929200"/>
            <a:ext cx="64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F48C-F16E-4EA2-A56B-A11FB070F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3124080" y="6072120"/>
            <a:ext cx="2895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643960" y="5929200"/>
            <a:ext cx="500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5DB6-1B50-4041-93A1-0393610AB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nsembl genebuil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opics covered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oading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comput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ted step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tep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NA and EST alignmen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R addi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build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genebuild processing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oal : import genomic seq into d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ownload Sequence and assembl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reate Ensembl-schema databas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oad using scripts: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 involved : seq_region,meta, meta_coord, coord_system, assembly, dn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Exercise 1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ssembly loadi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21C0-846D-4030-BA1E-4D2A0CAAB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200016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806-128E-4F9C-9642-211D0B5A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500120" y="1714680"/>
            <a:ext cx="7500960" cy="4213800"/>
            <a:chOff x="1500120" y="1714680"/>
            <a:chExt cx="7500960" cy="4213800"/>
          </a:xfrm>
        </p:grpSpPr>
        <p:grpSp>
          <p:nvGrpSpPr>
            <p:cNvPr id="215" name="Group 5"/>
            <p:cNvGrpSpPr/>
            <p:nvPr/>
          </p:nvGrpSpPr>
          <p:grpSpPr>
            <a:xfrm>
              <a:off x="1507680" y="2639160"/>
              <a:ext cx="7483320" cy="3289320"/>
              <a:chOff x="1507680" y="2639160"/>
              <a:chExt cx="7483320" cy="3289320"/>
            </a:xfrm>
          </p:grpSpPr>
          <p:grpSp>
            <p:nvGrpSpPr>
              <p:cNvPr id="216" name="Group 6"/>
              <p:cNvGrpSpPr/>
              <p:nvPr/>
            </p:nvGrpSpPr>
            <p:grpSpPr>
              <a:xfrm>
                <a:off x="1507680" y="2639160"/>
                <a:ext cx="7460280" cy="493200"/>
                <a:chOff x="1507680" y="2639160"/>
                <a:chExt cx="7460280" cy="493200"/>
              </a:xfrm>
            </p:grpSpPr>
            <p:sp>
              <p:nvSpPr>
                <p:cNvPr id="217" name="Text Box 7"/>
                <p:cNvSpPr/>
                <p:nvPr/>
              </p:nvSpPr>
              <p:spPr>
                <a:xfrm>
                  <a:off x="1507680" y="2639160"/>
                  <a:ext cx="7460280" cy="4932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Chromosome 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8"/>
                <p:cNvSpPr/>
                <p:nvPr/>
              </p:nvSpPr>
              <p:spPr>
                <a:xfrm>
                  <a:off x="4912560" y="2639160"/>
                  <a:ext cx="310320" cy="493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9"/>
              <p:cNvGrpSpPr/>
              <p:nvPr/>
            </p:nvGrpSpPr>
            <p:grpSpPr>
              <a:xfrm>
                <a:off x="1507680" y="3830760"/>
                <a:ext cx="7461360" cy="498960"/>
                <a:chOff x="1507680" y="3830760"/>
                <a:chExt cx="7461360" cy="498960"/>
              </a:xfrm>
            </p:grpSpPr>
            <p:sp>
              <p:nvSpPr>
                <p:cNvPr id="220" name="Text Box 10"/>
                <p:cNvSpPr/>
                <p:nvPr/>
              </p:nvSpPr>
              <p:spPr>
                <a:xfrm>
                  <a:off x="5238360" y="3830760"/>
                  <a:ext cx="3730680" cy="493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upercontig 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11"/>
                <p:cNvSpPr/>
                <p:nvPr/>
              </p:nvSpPr>
              <p:spPr>
                <a:xfrm>
                  <a:off x="1507680" y="3836520"/>
                  <a:ext cx="3421440" cy="493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upercontig 1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12"/>
              <p:cNvGrpSpPr/>
              <p:nvPr/>
            </p:nvGrpSpPr>
            <p:grpSpPr>
              <a:xfrm>
                <a:off x="1510920" y="4991040"/>
                <a:ext cx="7480080" cy="937440"/>
                <a:chOff x="1510920" y="4991040"/>
                <a:chExt cx="7480080" cy="937440"/>
              </a:xfrm>
            </p:grpSpPr>
            <p:grpSp>
              <p:nvGrpSpPr>
                <p:cNvPr id="223" name="Group 13"/>
                <p:cNvGrpSpPr/>
                <p:nvPr/>
              </p:nvGrpSpPr>
              <p:grpSpPr>
                <a:xfrm>
                  <a:off x="1510920" y="4991040"/>
                  <a:ext cx="3422880" cy="937440"/>
                  <a:chOff x="1510920" y="4991040"/>
                  <a:chExt cx="3422880" cy="937440"/>
                </a:xfrm>
              </p:grpSpPr>
              <p:sp>
                <p:nvSpPr>
                  <p:cNvPr id="224" name="Text Box 14"/>
                  <p:cNvSpPr/>
                  <p:nvPr/>
                </p:nvSpPr>
                <p:spPr>
                  <a:xfrm>
                    <a:off x="1510920" y="5209920"/>
                    <a:ext cx="1864800" cy="49320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1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5"/>
                  <p:cNvSpPr/>
                  <p:nvPr/>
                </p:nvSpPr>
                <p:spPr>
                  <a:xfrm>
                    <a:off x="2945880" y="5434920"/>
                    <a:ext cx="1191600" cy="49356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Text Box 16"/>
                  <p:cNvSpPr/>
                  <p:nvPr/>
                </p:nvSpPr>
                <p:spPr>
                  <a:xfrm>
                    <a:off x="3741840" y="4991040"/>
                    <a:ext cx="1191960" cy="49320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7"/>
                <p:cNvGrpSpPr/>
                <p:nvPr/>
              </p:nvGrpSpPr>
              <p:grpSpPr>
                <a:xfrm>
                  <a:off x="5269680" y="5202720"/>
                  <a:ext cx="3721320" cy="717840"/>
                  <a:chOff x="5269680" y="5202720"/>
                  <a:chExt cx="3721320" cy="717840"/>
                </a:xfrm>
              </p:grpSpPr>
              <p:sp>
                <p:nvSpPr>
                  <p:cNvPr id="228" name="Text Box 18"/>
                  <p:cNvSpPr/>
                  <p:nvPr/>
                </p:nvSpPr>
                <p:spPr>
                  <a:xfrm>
                    <a:off x="5269680" y="5202720"/>
                    <a:ext cx="2166840" cy="49284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Text Box 19"/>
                  <p:cNvSpPr/>
                  <p:nvPr/>
                </p:nvSpPr>
                <p:spPr>
                  <a:xfrm>
                    <a:off x="6813360" y="5427360"/>
                    <a:ext cx="2177640" cy="49320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800" spc="-1" strike="noStrike">
                        <a:solidFill>
                          <a:srgbClr val="000000"/>
                        </a:solidFill>
                        <a:latin typeface="Arial"/>
                        <a:ea typeface="ＭＳ Ｐゴシック"/>
                      </a:rPr>
                      <a:t>Contig 5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0" name="Line 20"/>
              <p:cNvSpPr/>
              <p:nvPr/>
            </p:nvSpPr>
            <p:spPr>
              <a:xfrm flipH="1">
                <a:off x="5064840" y="3274560"/>
                <a:ext cx="6480" cy="45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21"/>
              <p:cNvSpPr/>
              <p:nvPr/>
            </p:nvSpPr>
            <p:spPr>
              <a:xfrm flipH="1">
                <a:off x="5061600" y="4445280"/>
                <a:ext cx="6480" cy="45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 Box 22"/>
            <p:cNvSpPr/>
            <p:nvPr/>
          </p:nvSpPr>
          <p:spPr>
            <a:xfrm>
              <a:off x="1500120" y="1714680"/>
              <a:ext cx="7500960" cy="74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 supercontig is assembled from overlapping contig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2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ssembly 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6"/>
          <p:cNvSpPr/>
          <p:nvPr/>
        </p:nvSpPr>
        <p:spPr>
          <a:xfrm>
            <a:off x="0" y="200016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428480" y="1571400"/>
            <a:ext cx="72579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Repeat feature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st, RepeatMasker, TRF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Arial"/>
              </a:rPr>
              <a:t>Ab initio</a:t>
            </a: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 gene prediction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sca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Blast alignment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prot, Unigene, Vertrn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G (CpG islands)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cription start sites (Eponine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NA gene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Raw Comput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7EB0-7DF1-4AE4-8FDC-EE30E60E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2428920"/>
            <a:ext cx="1428840" cy="42876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put = species-specific protei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BI Taxonomy websi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ough gene posi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atch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search spac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Coding transcript structure predicti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onerate cdna2genome (human, mouse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argetted ste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78A3-1B88-49E9-A15F-B951BD30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28576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cc">
              <a:alpha val="1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argetted ste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8529480" y="5929200"/>
            <a:ext cx="61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0A27-01A6-4045-A0DF-4ED3C035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072120"/>
            <a:ext cx="2895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wen Aken &amp; Jan Vo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0" y="2857680"/>
            <a:ext cx="1428840" cy="428400"/>
          </a:xfrm>
          <a:prstGeom prst="rect">
            <a:avLst/>
          </a:prstGeom>
          <a:solidFill>
            <a:srgbClr val="0033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60560" y="1771560"/>
            <a:ext cx="4932360" cy="50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08720" y="1773360"/>
            <a:ext cx="17272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020000" y="1916280"/>
            <a:ext cx="216000" cy="215640"/>
            <a:chOff x="7020000" y="1916280"/>
            <a:chExt cx="216000" cy="215640"/>
          </a:xfrm>
        </p:grpSpPr>
        <p:sp>
          <p:nvSpPr>
            <p:cNvPr id="252" name=""/>
            <p:cNvSpPr/>
            <p:nvPr/>
          </p:nvSpPr>
          <p:spPr>
            <a:xfrm>
              <a:off x="7128000" y="191628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20000" y="202392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5280" y="2565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256536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P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960560" y="3213000"/>
            <a:ext cx="4932360" cy="911160"/>
            <a:chOff x="1960560" y="3213000"/>
            <a:chExt cx="4932360" cy="911160"/>
          </a:xfrm>
        </p:grpSpPr>
        <p:sp>
          <p:nvSpPr>
            <p:cNvPr id="257" name=""/>
            <p:cNvSpPr/>
            <p:nvPr/>
          </p:nvSpPr>
          <p:spPr>
            <a:xfrm>
              <a:off x="1960560" y="3619440"/>
              <a:ext cx="4932360" cy="504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68560" y="3213000"/>
              <a:ext cx="360360" cy="397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9640" y="3213000"/>
              <a:ext cx="503280" cy="397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13200" y="3213000"/>
              <a:ext cx="863640" cy="397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960560" y="5567400"/>
            <a:ext cx="4932360" cy="50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4368960"/>
            <a:ext cx="0" cy="42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436896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Gene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968560" y="5160960"/>
            <a:ext cx="3024360" cy="396720"/>
            <a:chOff x="2968560" y="5160960"/>
            <a:chExt cx="3024360" cy="396720"/>
          </a:xfrm>
        </p:grpSpPr>
        <p:sp>
          <p:nvSpPr>
            <p:cNvPr id="265" name=""/>
            <p:cNvSpPr/>
            <p:nvPr/>
          </p:nvSpPr>
          <p:spPr>
            <a:xfrm>
              <a:off x="2968560" y="5160960"/>
              <a:ext cx="36036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89640" y="5160960"/>
              <a:ext cx="50328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13200" y="5160960"/>
              <a:ext cx="86364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28920" y="5300640"/>
              <a:ext cx="59544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8920" y="5300640"/>
              <a:ext cx="720720" cy="84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4:15:35Z</dcterms:created>
  <dc:creator>ba1</dc:creator>
  <dc:description/>
  <dc:language>en-US</dc:language>
  <cp:lastModifiedBy>ba1</cp:lastModifiedBy>
  <dcterms:modified xsi:type="dcterms:W3CDTF">2009-11-13T15:51:28Z</dcterms:modified>
  <cp:revision>191</cp:revision>
  <dc:subject/>
  <dc:title>Slide 1</dc:title>
</cp:coreProperties>
</file>